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62E-AB38-4E1C-8A08-712B59B7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1A9-BDC5-47B0-9308-E46163F0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652-20CB-4C44-B758-5CBF78B3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DC6-5584-4310-95CA-1738A5EE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690-75BA-42DC-81BB-1696664A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10-7076-4879-860E-6B296C6D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B2B-6C7D-4850-B271-FC305A85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021-2275-4CCB-989B-33DB94D2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0F9-5265-49A4-B655-3B3B0CF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CD5-E5D8-4555-A874-5813CEC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9E2-9962-4C5B-82BE-A7AEEEC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E1B-AB10-45FE-B898-7696857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B00-81DF-462D-BBE0-2B578782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trapezo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95280" y="3429000"/>
            <a:ext cx="6629400" cy="2362320"/>
            <a:chOff x="1295280" y="3429000"/>
            <a:chExt cx="6629400" cy="2362320"/>
          </a:xfrm>
        </p:grpSpPr>
        <p:sp>
          <p:nvSpPr>
            <p:cNvPr id="44" name=""/>
            <p:cNvSpPr/>
            <p:nvPr/>
          </p:nvSpPr>
          <p:spPr>
            <a:xfrm>
              <a:off x="2971800" y="34290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57913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295280" y="3429000"/>
              <a:ext cx="16765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67280" y="3429000"/>
              <a:ext cx="20574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221360" y="5937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70800" y="28400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429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0560" y="4362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9760" y="534960"/>
            <a:ext cx="1741320" cy="866880"/>
          </a:xfrm>
          <a:custGeom>
            <a:avLst/>
            <a:gdLst/>
            <a:ahLst/>
            <a:rect l="l" t="t" r="r" b="b"/>
            <a:pathLst>
              <a:path w="4838" h="2407">
                <a:moveTo>
                  <a:pt x="1662" y="3894"/>
                </a:moveTo>
                <a:lnTo>
                  <a:pt x="1662" y="3894"/>
                </a:lnTo>
              </a:path>
              <a:path w="4838" h="2407">
                <a:moveTo>
                  <a:pt x="1786" y="2158"/>
                </a:moveTo>
                <a:cubicBezTo>
                  <a:pt x="1664" y="2475"/>
                  <a:pt x="1581" y="2806"/>
                  <a:pt x="1463" y="3125"/>
                </a:cubicBezTo>
                <a:cubicBezTo>
                  <a:pt x="1447" y="3158"/>
                  <a:pt x="1430" y="3192"/>
                  <a:pt x="1414" y="3225"/>
                </a:cubicBezTo>
                <a:cubicBezTo>
                  <a:pt x="1496" y="2832"/>
                  <a:pt x="1535" y="2464"/>
                  <a:pt x="1736" y="2108"/>
                </a:cubicBezTo>
                <a:cubicBezTo>
                  <a:pt x="1822" y="1980"/>
                  <a:pt x="1839" y="1948"/>
                  <a:pt x="1910" y="1885"/>
                </a:cubicBezTo>
                <a:cubicBezTo>
                  <a:pt x="2016" y="2128"/>
                  <a:pt x="1990" y="2406"/>
                  <a:pt x="1960" y="2679"/>
                </a:cubicBezTo>
                <a:cubicBezTo>
                  <a:pt x="1946" y="2809"/>
                  <a:pt x="1921" y="2927"/>
                  <a:pt x="1885" y="3051"/>
                </a:cubicBezTo>
              </a:path>
              <a:path w="4838" h="2407">
                <a:moveTo>
                  <a:pt x="1563" y="2679"/>
                </a:moveTo>
                <a:cubicBezTo>
                  <a:pt x="1680" y="2659"/>
                  <a:pt x="1793" y="2637"/>
                  <a:pt x="1910" y="2629"/>
                </a:cubicBezTo>
              </a:path>
              <a:path w="4838" h="2407">
                <a:moveTo>
                  <a:pt x="2356" y="2704"/>
                </a:moveTo>
                <a:cubicBezTo>
                  <a:pt x="2466" y="2688"/>
                  <a:pt x="2567" y="2679"/>
                  <a:pt x="2679" y="2679"/>
                </a:cubicBezTo>
              </a:path>
              <a:path w="4838" h="2407">
                <a:moveTo>
                  <a:pt x="2257" y="3001"/>
                </a:moveTo>
                <a:cubicBezTo>
                  <a:pt x="2374" y="3026"/>
                  <a:pt x="2483" y="3026"/>
                  <a:pt x="2604" y="3026"/>
                </a:cubicBezTo>
              </a:path>
              <a:path w="4838" h="2407">
                <a:moveTo>
                  <a:pt x="2108" y="3299"/>
                </a:moveTo>
                <a:cubicBezTo>
                  <a:pt x="2176" y="3326"/>
                  <a:pt x="2234" y="3342"/>
                  <a:pt x="2307" y="3349"/>
                </a:cubicBezTo>
              </a:path>
              <a:path w="4838" h="2407">
                <a:moveTo>
                  <a:pt x="1811" y="3621"/>
                </a:moveTo>
                <a:cubicBezTo>
                  <a:pt x="1943" y="3654"/>
                  <a:pt x="2092" y="3665"/>
                  <a:pt x="2232" y="3671"/>
                </a:cubicBezTo>
                <a:cubicBezTo>
                  <a:pt x="2240" y="3671"/>
                  <a:pt x="2249" y="3671"/>
                  <a:pt x="2257" y="3671"/>
                </a:cubicBezTo>
              </a:path>
              <a:path w="4838" h="2407">
                <a:moveTo>
                  <a:pt x="2108" y="3324"/>
                </a:moveTo>
                <a:cubicBezTo>
                  <a:pt x="2003" y="3377"/>
                  <a:pt x="1900" y="3420"/>
                  <a:pt x="1811" y="3497"/>
                </a:cubicBezTo>
                <a:cubicBezTo>
                  <a:pt x="1803" y="3505"/>
                  <a:pt x="1794" y="3514"/>
                  <a:pt x="1786" y="3522"/>
                </a:cubicBezTo>
              </a:path>
              <a:path w="4838" h="2407">
                <a:moveTo>
                  <a:pt x="2381" y="3349"/>
                </a:moveTo>
                <a:cubicBezTo>
                  <a:pt x="2457" y="3436"/>
                  <a:pt x="2512" y="3510"/>
                  <a:pt x="2580" y="3597"/>
                </a:cubicBezTo>
                <a:cubicBezTo>
                  <a:pt x="2619" y="3636"/>
                  <a:pt x="2635" y="3637"/>
                  <a:pt x="2629" y="3671"/>
                </a:cubicBezTo>
                <a:cubicBezTo>
                  <a:pt x="2532" y="3689"/>
                  <a:pt x="2381" y="3729"/>
                  <a:pt x="2282" y="3696"/>
                </a:cubicBezTo>
                <a:cubicBezTo>
                  <a:pt x="2274" y="3688"/>
                  <a:pt x="2265" y="3679"/>
                  <a:pt x="2257" y="3671"/>
                </a:cubicBezTo>
              </a:path>
              <a:path w="4838" h="2407">
                <a:moveTo>
                  <a:pt x="3497" y="1811"/>
                </a:moveTo>
                <a:cubicBezTo>
                  <a:pt x="3467" y="2036"/>
                  <a:pt x="3477" y="2253"/>
                  <a:pt x="3497" y="2480"/>
                </a:cubicBezTo>
                <a:cubicBezTo>
                  <a:pt x="3497" y="2464"/>
                  <a:pt x="3497" y="2447"/>
                  <a:pt x="3497" y="2431"/>
                </a:cubicBezTo>
                <a:cubicBezTo>
                  <a:pt x="3478" y="2276"/>
                  <a:pt x="3518" y="2104"/>
                  <a:pt x="3746" y="2158"/>
                </a:cubicBezTo>
                <a:cubicBezTo>
                  <a:pt x="3779" y="2183"/>
                  <a:pt x="3812" y="2207"/>
                  <a:pt x="3845" y="2232"/>
                </a:cubicBezTo>
                <a:cubicBezTo>
                  <a:pt x="3864" y="2421"/>
                  <a:pt x="3866" y="2573"/>
                  <a:pt x="3621" y="2580"/>
                </a:cubicBezTo>
                <a:cubicBezTo>
                  <a:pt x="3548" y="2555"/>
                  <a:pt x="3523" y="2548"/>
                  <a:pt x="3547" y="2480"/>
                </a:cubicBezTo>
              </a:path>
              <a:path w="4838" h="2407">
                <a:moveTo>
                  <a:pt x="4118" y="2456"/>
                </a:moveTo>
                <a:cubicBezTo>
                  <a:pt x="4096" y="2582"/>
                  <a:pt x="4093" y="2699"/>
                  <a:pt x="4093" y="2828"/>
                </a:cubicBezTo>
              </a:path>
              <a:path w="4838" h="2407">
                <a:moveTo>
                  <a:pt x="4465" y="1984"/>
                </a:moveTo>
                <a:cubicBezTo>
                  <a:pt x="4458" y="2123"/>
                  <a:pt x="4445" y="2245"/>
                  <a:pt x="4465" y="2381"/>
                </a:cubicBezTo>
              </a:path>
              <a:path w="4838" h="2407">
                <a:moveTo>
                  <a:pt x="4291" y="2208"/>
                </a:moveTo>
                <a:cubicBezTo>
                  <a:pt x="4408" y="2187"/>
                  <a:pt x="4520" y="2176"/>
                  <a:pt x="4638" y="2158"/>
                </a:cubicBezTo>
              </a:path>
              <a:path w="4838" h="2407">
                <a:moveTo>
                  <a:pt x="4936" y="1662"/>
                </a:moveTo>
                <a:cubicBezTo>
                  <a:pt x="4920" y="1865"/>
                  <a:pt x="4931" y="2053"/>
                  <a:pt x="4936" y="2257"/>
                </a:cubicBezTo>
                <a:cubicBezTo>
                  <a:pt x="4936" y="2282"/>
                  <a:pt x="4936" y="2307"/>
                  <a:pt x="4936" y="2332"/>
                </a:cubicBezTo>
                <a:cubicBezTo>
                  <a:pt x="4945" y="2230"/>
                  <a:pt x="4966" y="2173"/>
                  <a:pt x="5011" y="2084"/>
                </a:cubicBezTo>
                <a:cubicBezTo>
                  <a:pt x="5131" y="2023"/>
                  <a:pt x="5200" y="2160"/>
                  <a:pt x="5184" y="2282"/>
                </a:cubicBezTo>
                <a:cubicBezTo>
                  <a:pt x="5164" y="2436"/>
                  <a:pt x="5029" y="2479"/>
                  <a:pt x="4911" y="2456"/>
                </a:cubicBezTo>
              </a:path>
              <a:path w="4838" h="2407">
                <a:moveTo>
                  <a:pt x="5283" y="2307"/>
                </a:moveTo>
                <a:cubicBezTo>
                  <a:pt x="5351" y="2315"/>
                  <a:pt x="5457" y="2321"/>
                  <a:pt x="5482" y="2381"/>
                </a:cubicBezTo>
                <a:cubicBezTo>
                  <a:pt x="5543" y="2526"/>
                  <a:pt x="5414" y="2580"/>
                  <a:pt x="5308" y="2654"/>
                </a:cubicBezTo>
                <a:cubicBezTo>
                  <a:pt x="5292" y="2662"/>
                  <a:pt x="5275" y="2671"/>
                  <a:pt x="5259" y="2679"/>
                </a:cubicBezTo>
                <a:cubicBezTo>
                  <a:pt x="5357" y="2706"/>
                  <a:pt x="5452" y="2704"/>
                  <a:pt x="5556" y="2704"/>
                </a:cubicBezTo>
              </a:path>
              <a:path w="4838" h="2407">
                <a:moveTo>
                  <a:pt x="3274" y="1488"/>
                </a:moveTo>
                <a:cubicBezTo>
                  <a:pt x="3153" y="1759"/>
                  <a:pt x="3035" y="2034"/>
                  <a:pt x="3001" y="2332"/>
                </a:cubicBezTo>
                <a:cubicBezTo>
                  <a:pt x="2963" y="2667"/>
                  <a:pt x="3124" y="2820"/>
                  <a:pt x="3423" y="2927"/>
                </a:cubicBezTo>
                <a:cubicBezTo>
                  <a:pt x="3464" y="2935"/>
                  <a:pt x="3506" y="2944"/>
                  <a:pt x="3547" y="2952"/>
                </a:cubicBezTo>
              </a:path>
              <a:path w="4838" h="2407">
                <a:moveTo>
                  <a:pt x="5432" y="1563"/>
                </a:moveTo>
                <a:cubicBezTo>
                  <a:pt x="5478" y="1767"/>
                  <a:pt x="5617" y="1974"/>
                  <a:pt x="5680" y="2183"/>
                </a:cubicBezTo>
                <a:cubicBezTo>
                  <a:pt x="5755" y="2432"/>
                  <a:pt x="5747" y="2644"/>
                  <a:pt x="5631" y="2877"/>
                </a:cubicBezTo>
                <a:cubicBezTo>
                  <a:pt x="5623" y="2885"/>
                  <a:pt x="5614" y="2894"/>
                  <a:pt x="5606" y="2902"/>
                </a:cubicBezTo>
              </a:path>
              <a:path w="4838" h="2407">
                <a:moveTo>
                  <a:pt x="6003" y="1712"/>
                </a:moveTo>
                <a:cubicBezTo>
                  <a:pt x="5978" y="1953"/>
                  <a:pt x="5978" y="2189"/>
                  <a:pt x="5978" y="2431"/>
                </a:cubicBezTo>
                <a:cubicBezTo>
                  <a:pt x="5978" y="2677"/>
                  <a:pt x="6006" y="2296"/>
                  <a:pt x="6028" y="2232"/>
                </a:cubicBezTo>
                <a:cubicBezTo>
                  <a:pt x="6048" y="2173"/>
                  <a:pt x="6073" y="2169"/>
                  <a:pt x="6127" y="2158"/>
                </a:cubicBezTo>
                <a:cubicBezTo>
                  <a:pt x="6225" y="2296"/>
                  <a:pt x="6241" y="2406"/>
                  <a:pt x="6251" y="2580"/>
                </a:cubicBezTo>
              </a:path>
              <a:path w="4838" h="2407">
                <a:moveTo>
                  <a:pt x="3597" y="3051"/>
                </a:moveTo>
                <a:cubicBezTo>
                  <a:pt x="3860" y="3075"/>
                  <a:pt x="4123" y="3086"/>
                  <a:pt x="4390" y="3076"/>
                </a:cubicBezTo>
                <a:cubicBezTo>
                  <a:pt x="4899" y="3057"/>
                  <a:pt x="5396" y="3061"/>
                  <a:pt x="5904" y="3076"/>
                </a:cubicBezTo>
                <a:cubicBezTo>
                  <a:pt x="6095" y="3076"/>
                  <a:pt x="6124" y="3058"/>
                  <a:pt x="6226" y="3101"/>
                </a:cubicBezTo>
              </a:path>
              <a:path w="4838" h="2407">
                <a:moveTo>
                  <a:pt x="4986" y="3349"/>
                </a:moveTo>
                <a:cubicBezTo>
                  <a:pt x="5035" y="3299"/>
                  <a:pt x="5121" y="3179"/>
                  <a:pt x="5209" y="3274"/>
                </a:cubicBezTo>
                <a:cubicBezTo>
                  <a:pt x="5217" y="3291"/>
                  <a:pt x="5226" y="3307"/>
                  <a:pt x="5234" y="3324"/>
                </a:cubicBezTo>
                <a:cubicBezTo>
                  <a:pt x="5182" y="3388"/>
                  <a:pt x="5110" y="3440"/>
                  <a:pt x="5060" y="3497"/>
                </a:cubicBezTo>
                <a:cubicBezTo>
                  <a:pt x="4994" y="3572"/>
                  <a:pt x="4916" y="3659"/>
                  <a:pt x="4862" y="3746"/>
                </a:cubicBezTo>
                <a:cubicBezTo>
                  <a:pt x="4835" y="3789"/>
                  <a:pt x="4819" y="3830"/>
                  <a:pt x="4787" y="3870"/>
                </a:cubicBezTo>
                <a:cubicBezTo>
                  <a:pt x="4861" y="3830"/>
                  <a:pt x="4921" y="3799"/>
                  <a:pt x="4986" y="3746"/>
                </a:cubicBezTo>
                <a:cubicBezTo>
                  <a:pt x="5106" y="3878"/>
                  <a:pt x="5106" y="3900"/>
                  <a:pt x="5283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920" y="3178080"/>
            <a:ext cx="1670040" cy="1314720"/>
          </a:xfrm>
          <a:custGeom>
            <a:avLst/>
            <a:gdLst/>
            <a:ahLst/>
            <a:rect l="l" t="t" r="r" b="b"/>
            <a:pathLst>
              <a:path w="4639" h="3648">
                <a:moveTo>
                  <a:pt x="2009" y="11757"/>
                </a:moveTo>
                <a:lnTo>
                  <a:pt x="2009" y="11757"/>
                </a:lnTo>
              </a:path>
              <a:path w="4639" h="3648">
                <a:moveTo>
                  <a:pt x="4415" y="8979"/>
                </a:moveTo>
                <a:cubicBezTo>
                  <a:pt x="4497" y="8889"/>
                  <a:pt x="4563" y="8845"/>
                  <a:pt x="4688" y="8830"/>
                </a:cubicBezTo>
                <a:cubicBezTo>
                  <a:pt x="4785" y="8818"/>
                  <a:pt x="4766" y="8930"/>
                  <a:pt x="4738" y="8979"/>
                </a:cubicBezTo>
                <a:cubicBezTo>
                  <a:pt x="4683" y="9077"/>
                  <a:pt x="4606" y="9117"/>
                  <a:pt x="4514" y="9178"/>
                </a:cubicBezTo>
                <a:cubicBezTo>
                  <a:pt x="4401" y="9253"/>
                  <a:pt x="4351" y="9372"/>
                  <a:pt x="4266" y="9475"/>
                </a:cubicBezTo>
                <a:cubicBezTo>
                  <a:pt x="4313" y="9420"/>
                  <a:pt x="4370" y="9308"/>
                  <a:pt x="4440" y="9277"/>
                </a:cubicBezTo>
                <a:cubicBezTo>
                  <a:pt x="4515" y="9244"/>
                  <a:pt x="4537" y="9351"/>
                  <a:pt x="4589" y="9376"/>
                </a:cubicBezTo>
                <a:cubicBezTo>
                  <a:pt x="4678" y="9419"/>
                  <a:pt x="4740" y="9409"/>
                  <a:pt x="4812" y="9351"/>
                </a:cubicBezTo>
              </a:path>
              <a:path w="4639" h="3648">
                <a:moveTo>
                  <a:pt x="174" y="11509"/>
                </a:moveTo>
                <a:cubicBezTo>
                  <a:pt x="174" y="11526"/>
                  <a:pt x="174" y="11542"/>
                  <a:pt x="174" y="11559"/>
                </a:cubicBezTo>
              </a:path>
              <a:path w="4639" h="3648">
                <a:moveTo>
                  <a:pt x="992" y="10641"/>
                </a:moveTo>
                <a:cubicBezTo>
                  <a:pt x="908" y="10894"/>
                  <a:pt x="871" y="11171"/>
                  <a:pt x="819" y="11435"/>
                </a:cubicBezTo>
                <a:cubicBezTo>
                  <a:pt x="799" y="11536"/>
                  <a:pt x="801" y="11598"/>
                  <a:pt x="769" y="11509"/>
                </a:cubicBezTo>
                <a:cubicBezTo>
                  <a:pt x="838" y="11227"/>
                  <a:pt x="909" y="10961"/>
                  <a:pt x="1017" y="10691"/>
                </a:cubicBezTo>
                <a:cubicBezTo>
                  <a:pt x="1085" y="10531"/>
                  <a:pt x="1102" y="10485"/>
                  <a:pt x="1166" y="10393"/>
                </a:cubicBezTo>
                <a:cubicBezTo>
                  <a:pt x="1249" y="10622"/>
                  <a:pt x="1263" y="10886"/>
                  <a:pt x="1240" y="11137"/>
                </a:cubicBezTo>
                <a:cubicBezTo>
                  <a:pt x="1222" y="11228"/>
                  <a:pt x="1213" y="11235"/>
                  <a:pt x="1215" y="11286"/>
                </a:cubicBezTo>
              </a:path>
              <a:path w="4639" h="3648">
                <a:moveTo>
                  <a:pt x="893" y="11013"/>
                </a:moveTo>
                <a:cubicBezTo>
                  <a:pt x="1001" y="10977"/>
                  <a:pt x="1109" y="10950"/>
                  <a:pt x="1215" y="10914"/>
                </a:cubicBezTo>
              </a:path>
              <a:path w="4639" h="3648">
                <a:moveTo>
                  <a:pt x="1538" y="10840"/>
                </a:moveTo>
                <a:cubicBezTo>
                  <a:pt x="1637" y="10820"/>
                  <a:pt x="1653" y="10812"/>
                  <a:pt x="1712" y="10815"/>
                </a:cubicBezTo>
              </a:path>
              <a:path w="4639" h="3648">
                <a:moveTo>
                  <a:pt x="1538" y="11088"/>
                </a:moveTo>
                <a:cubicBezTo>
                  <a:pt x="1608" y="11074"/>
                  <a:pt x="1680" y="11067"/>
                  <a:pt x="1736" y="11038"/>
                </a:cubicBezTo>
              </a:path>
              <a:path w="4639" h="3648">
                <a:moveTo>
                  <a:pt x="2282" y="10542"/>
                </a:moveTo>
                <a:cubicBezTo>
                  <a:pt x="2233" y="10691"/>
                  <a:pt x="2153" y="10843"/>
                  <a:pt x="2084" y="10988"/>
                </a:cubicBezTo>
                <a:cubicBezTo>
                  <a:pt x="2218" y="10963"/>
                  <a:pt x="2344" y="10939"/>
                  <a:pt x="2480" y="10939"/>
                </a:cubicBezTo>
              </a:path>
              <a:path w="4639" h="3648">
                <a:moveTo>
                  <a:pt x="2555" y="10393"/>
                </a:moveTo>
                <a:cubicBezTo>
                  <a:pt x="2472" y="10714"/>
                  <a:pt x="2401" y="11037"/>
                  <a:pt x="2332" y="11361"/>
                </a:cubicBezTo>
              </a:path>
              <a:path w="4639" h="3648">
                <a:moveTo>
                  <a:pt x="3001" y="10765"/>
                </a:moveTo>
                <a:cubicBezTo>
                  <a:pt x="2987" y="10687"/>
                  <a:pt x="2929" y="10390"/>
                  <a:pt x="2778" y="10517"/>
                </a:cubicBezTo>
                <a:cubicBezTo>
                  <a:pt x="2656" y="10619"/>
                  <a:pt x="2617" y="10707"/>
                  <a:pt x="2629" y="10840"/>
                </a:cubicBezTo>
                <a:cubicBezTo>
                  <a:pt x="2783" y="10804"/>
                  <a:pt x="2818" y="10766"/>
                  <a:pt x="2927" y="10641"/>
                </a:cubicBezTo>
                <a:cubicBezTo>
                  <a:pt x="2917" y="10868"/>
                  <a:pt x="2880" y="11086"/>
                  <a:pt x="2853" y="11311"/>
                </a:cubicBezTo>
                <a:cubicBezTo>
                  <a:pt x="2853" y="11328"/>
                  <a:pt x="2853" y="11344"/>
                  <a:pt x="2853" y="11361"/>
                </a:cubicBezTo>
              </a:path>
              <a:path w="4639" h="3648">
                <a:moveTo>
                  <a:pt x="3299" y="10294"/>
                </a:moveTo>
                <a:cubicBezTo>
                  <a:pt x="3145" y="10533"/>
                  <a:pt x="3087" y="10776"/>
                  <a:pt x="3125" y="11063"/>
                </a:cubicBezTo>
                <a:cubicBezTo>
                  <a:pt x="3142" y="11192"/>
                  <a:pt x="3193" y="11257"/>
                  <a:pt x="3249" y="11361"/>
                </a:cubicBezTo>
              </a:path>
              <a:path w="4639" h="3648">
                <a:moveTo>
                  <a:pt x="4142" y="10567"/>
                </a:moveTo>
                <a:cubicBezTo>
                  <a:pt x="4084" y="10567"/>
                  <a:pt x="3898" y="10527"/>
                  <a:pt x="3870" y="10616"/>
                </a:cubicBezTo>
                <a:cubicBezTo>
                  <a:pt x="3848" y="10724"/>
                  <a:pt x="3845" y="10751"/>
                  <a:pt x="3820" y="10815"/>
                </a:cubicBezTo>
                <a:cubicBezTo>
                  <a:pt x="3985" y="10768"/>
                  <a:pt x="4021" y="10763"/>
                  <a:pt x="4192" y="10815"/>
                </a:cubicBezTo>
                <a:cubicBezTo>
                  <a:pt x="4192" y="10970"/>
                  <a:pt x="4102" y="11204"/>
                  <a:pt x="3870" y="11112"/>
                </a:cubicBezTo>
                <a:cubicBezTo>
                  <a:pt x="3837" y="11079"/>
                  <a:pt x="3803" y="11046"/>
                  <a:pt x="3770" y="11013"/>
                </a:cubicBezTo>
              </a:path>
              <a:path w="4639" h="3648">
                <a:moveTo>
                  <a:pt x="3597" y="10740"/>
                </a:moveTo>
                <a:cubicBezTo>
                  <a:pt x="3597" y="10638"/>
                  <a:pt x="3597" y="11040"/>
                  <a:pt x="3597" y="11112"/>
                </a:cubicBezTo>
                <a:cubicBezTo>
                  <a:pt x="3597" y="11120"/>
                  <a:pt x="3597" y="11129"/>
                  <a:pt x="3597" y="11137"/>
                </a:cubicBezTo>
              </a:path>
              <a:path w="4639" h="3648">
                <a:moveTo>
                  <a:pt x="4217" y="10220"/>
                </a:moveTo>
                <a:cubicBezTo>
                  <a:pt x="4332" y="10461"/>
                  <a:pt x="4540" y="10702"/>
                  <a:pt x="4490" y="10988"/>
                </a:cubicBezTo>
                <a:cubicBezTo>
                  <a:pt x="4474" y="11079"/>
                  <a:pt x="4381" y="11193"/>
                  <a:pt x="4316" y="11237"/>
                </a:cubicBezTo>
              </a:path>
              <a:path w="4639" h="3648">
                <a:moveTo>
                  <a:pt x="2282" y="11633"/>
                </a:moveTo>
                <a:cubicBezTo>
                  <a:pt x="2548" y="11615"/>
                  <a:pt x="2809" y="11590"/>
                  <a:pt x="3076" y="11559"/>
                </a:cubicBezTo>
                <a:cubicBezTo>
                  <a:pt x="3514" y="11507"/>
                  <a:pt x="3948" y="11435"/>
                  <a:pt x="4390" y="11435"/>
                </a:cubicBezTo>
              </a:path>
              <a:path w="4639" h="3648">
                <a:moveTo>
                  <a:pt x="3249" y="11832"/>
                </a:moveTo>
                <a:cubicBezTo>
                  <a:pt x="3304" y="11756"/>
                  <a:pt x="3350" y="11740"/>
                  <a:pt x="3448" y="11733"/>
                </a:cubicBezTo>
                <a:cubicBezTo>
                  <a:pt x="3456" y="11733"/>
                  <a:pt x="3465" y="11733"/>
                  <a:pt x="3473" y="11733"/>
                </a:cubicBezTo>
                <a:cubicBezTo>
                  <a:pt x="3453" y="11923"/>
                  <a:pt x="3399" y="12021"/>
                  <a:pt x="3249" y="12154"/>
                </a:cubicBezTo>
                <a:cubicBezTo>
                  <a:pt x="3136" y="12254"/>
                  <a:pt x="3081" y="12331"/>
                  <a:pt x="3001" y="12452"/>
                </a:cubicBezTo>
                <a:cubicBezTo>
                  <a:pt x="2993" y="12460"/>
                  <a:pt x="2985" y="12469"/>
                  <a:pt x="2977" y="12477"/>
                </a:cubicBezTo>
                <a:cubicBezTo>
                  <a:pt x="3010" y="12390"/>
                  <a:pt x="3026" y="12286"/>
                  <a:pt x="3125" y="12254"/>
                </a:cubicBezTo>
                <a:cubicBezTo>
                  <a:pt x="3215" y="12225"/>
                  <a:pt x="3218" y="12258"/>
                  <a:pt x="3299" y="12303"/>
                </a:cubicBezTo>
                <a:cubicBezTo>
                  <a:pt x="3416" y="12368"/>
                  <a:pt x="3472" y="12286"/>
                  <a:pt x="3547" y="12204"/>
                </a:cubicBezTo>
              </a:path>
              <a:path w="4639" h="3648">
                <a:moveTo>
                  <a:pt x="2753" y="11385"/>
                </a:moveTo>
                <a:lnTo>
                  <a:pt x="2753" y="113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840" y="4848120"/>
            <a:ext cx="30492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620" y="13891"/>
                </a:moveTo>
                <a:cubicBezTo>
                  <a:pt x="576" y="14115"/>
                  <a:pt x="566" y="14175"/>
                  <a:pt x="521" y="14312"/>
                </a:cubicBezTo>
                <a:cubicBezTo>
                  <a:pt x="429" y="14374"/>
                  <a:pt x="546" y="13910"/>
                  <a:pt x="571" y="13816"/>
                </a:cubicBezTo>
                <a:cubicBezTo>
                  <a:pt x="635" y="13622"/>
                  <a:pt x="645" y="13573"/>
                  <a:pt x="719" y="13469"/>
                </a:cubicBezTo>
                <a:cubicBezTo>
                  <a:pt x="875" y="13596"/>
                  <a:pt x="918" y="13869"/>
                  <a:pt x="918" y="14089"/>
                </a:cubicBezTo>
                <a:cubicBezTo>
                  <a:pt x="918" y="14170"/>
                  <a:pt x="893" y="14254"/>
                  <a:pt x="893" y="14337"/>
                </a:cubicBezTo>
              </a:path>
              <a:path w="844" h="894">
                <a:moveTo>
                  <a:pt x="571" y="14064"/>
                </a:moveTo>
                <a:cubicBezTo>
                  <a:pt x="697" y="14010"/>
                  <a:pt x="815" y="13962"/>
                  <a:pt x="943" y="13915"/>
                </a:cubicBezTo>
              </a:path>
              <a:path w="844" h="894">
                <a:moveTo>
                  <a:pt x="1265" y="13742"/>
                </a:moveTo>
                <a:cubicBezTo>
                  <a:pt x="1285" y="13701"/>
                  <a:pt x="1283" y="13685"/>
                  <a:pt x="1315" y="13692"/>
                </a:cubicBezTo>
              </a:path>
              <a:path w="844" h="894">
                <a:moveTo>
                  <a:pt x="1191" y="13965"/>
                </a:moveTo>
                <a:cubicBezTo>
                  <a:pt x="1244" y="13958"/>
                  <a:pt x="1286" y="13947"/>
                  <a:pt x="1339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920" y="4848120"/>
            <a:ext cx="2027160" cy="1349640"/>
          </a:xfrm>
          <a:custGeom>
            <a:avLst/>
            <a:gdLst/>
            <a:ahLst/>
            <a:rect l="l" t="t" r="r" b="b"/>
            <a:pathLst>
              <a:path w="5631" h="3746">
                <a:moveTo>
                  <a:pt x="1811" y="13494"/>
                </a:moveTo>
                <a:cubicBezTo>
                  <a:pt x="1835" y="13614"/>
                  <a:pt x="1787" y="13672"/>
                  <a:pt x="1761" y="13791"/>
                </a:cubicBezTo>
                <a:cubicBezTo>
                  <a:pt x="1798" y="13659"/>
                  <a:pt x="1795" y="13512"/>
                  <a:pt x="1960" y="13494"/>
                </a:cubicBezTo>
                <a:cubicBezTo>
                  <a:pt x="2073" y="13481"/>
                  <a:pt x="2170" y="13490"/>
                  <a:pt x="2282" y="13469"/>
                </a:cubicBezTo>
                <a:cubicBezTo>
                  <a:pt x="2300" y="13707"/>
                  <a:pt x="2113" y="13979"/>
                  <a:pt x="1984" y="14188"/>
                </a:cubicBezTo>
                <a:cubicBezTo>
                  <a:pt x="1968" y="14205"/>
                  <a:pt x="1951" y="14221"/>
                  <a:pt x="1935" y="14238"/>
                </a:cubicBezTo>
              </a:path>
              <a:path w="5631" h="3746">
                <a:moveTo>
                  <a:pt x="2332" y="13593"/>
                </a:moveTo>
                <a:cubicBezTo>
                  <a:pt x="2436" y="13531"/>
                  <a:pt x="2454" y="13506"/>
                  <a:pt x="2530" y="13519"/>
                </a:cubicBezTo>
                <a:cubicBezTo>
                  <a:pt x="2541" y="13710"/>
                  <a:pt x="2505" y="13772"/>
                  <a:pt x="2332" y="13866"/>
                </a:cubicBezTo>
                <a:cubicBezTo>
                  <a:pt x="2493" y="13920"/>
                  <a:pt x="2545" y="14089"/>
                  <a:pt x="2381" y="14213"/>
                </a:cubicBezTo>
                <a:cubicBezTo>
                  <a:pt x="2272" y="14295"/>
                  <a:pt x="2197" y="14252"/>
                  <a:pt x="2084" y="14238"/>
                </a:cubicBezTo>
              </a:path>
              <a:path w="5631" h="3746">
                <a:moveTo>
                  <a:pt x="2977" y="13643"/>
                </a:moveTo>
                <a:cubicBezTo>
                  <a:pt x="2898" y="13643"/>
                  <a:pt x="2832" y="13618"/>
                  <a:pt x="2803" y="13692"/>
                </a:cubicBezTo>
                <a:cubicBezTo>
                  <a:pt x="2761" y="13816"/>
                  <a:pt x="2753" y="13840"/>
                  <a:pt x="2729" y="13915"/>
                </a:cubicBezTo>
                <a:cubicBezTo>
                  <a:pt x="2849" y="13946"/>
                  <a:pt x="3028" y="13856"/>
                  <a:pt x="3150" y="13965"/>
                </a:cubicBezTo>
                <a:cubicBezTo>
                  <a:pt x="3350" y="14144"/>
                  <a:pt x="2960" y="14282"/>
                  <a:pt x="2828" y="14238"/>
                </a:cubicBezTo>
                <a:cubicBezTo>
                  <a:pt x="2803" y="14213"/>
                  <a:pt x="2778" y="14188"/>
                  <a:pt x="2753" y="14163"/>
                </a:cubicBezTo>
              </a:path>
              <a:path w="5631" h="3746">
                <a:moveTo>
                  <a:pt x="1513" y="14585"/>
                </a:moveTo>
                <a:cubicBezTo>
                  <a:pt x="1939" y="14575"/>
                  <a:pt x="2355" y="14519"/>
                  <a:pt x="2778" y="14486"/>
                </a:cubicBezTo>
                <a:cubicBezTo>
                  <a:pt x="2836" y="14486"/>
                  <a:pt x="2894" y="14486"/>
                  <a:pt x="2952" y="14486"/>
                </a:cubicBezTo>
              </a:path>
              <a:path w="5631" h="3746">
                <a:moveTo>
                  <a:pt x="1935" y="15007"/>
                </a:moveTo>
                <a:cubicBezTo>
                  <a:pt x="2018" y="14930"/>
                  <a:pt x="2146" y="14779"/>
                  <a:pt x="2282" y="14833"/>
                </a:cubicBezTo>
                <a:cubicBezTo>
                  <a:pt x="2299" y="14850"/>
                  <a:pt x="2315" y="14866"/>
                  <a:pt x="2332" y="14883"/>
                </a:cubicBezTo>
                <a:cubicBezTo>
                  <a:pt x="2280" y="15114"/>
                  <a:pt x="2131" y="15234"/>
                  <a:pt x="1960" y="15404"/>
                </a:cubicBezTo>
                <a:cubicBezTo>
                  <a:pt x="1927" y="15437"/>
                  <a:pt x="1893" y="15470"/>
                  <a:pt x="1860" y="15503"/>
                </a:cubicBezTo>
                <a:cubicBezTo>
                  <a:pt x="1931" y="15413"/>
                  <a:pt x="2049" y="15269"/>
                  <a:pt x="2183" y="15329"/>
                </a:cubicBezTo>
                <a:cubicBezTo>
                  <a:pt x="2337" y="15398"/>
                  <a:pt x="2428" y="15407"/>
                  <a:pt x="2530" y="15280"/>
                </a:cubicBezTo>
              </a:path>
              <a:path w="5631" h="3746">
                <a:moveTo>
                  <a:pt x="397" y="15949"/>
                </a:moveTo>
                <a:cubicBezTo>
                  <a:pt x="322" y="16184"/>
                  <a:pt x="366" y="16396"/>
                  <a:pt x="397" y="16644"/>
                </a:cubicBezTo>
                <a:cubicBezTo>
                  <a:pt x="419" y="16820"/>
                  <a:pt x="415" y="17018"/>
                  <a:pt x="446" y="17190"/>
                </a:cubicBezTo>
                <a:cubicBezTo>
                  <a:pt x="454" y="17198"/>
                  <a:pt x="463" y="17206"/>
                  <a:pt x="471" y="17214"/>
                </a:cubicBezTo>
                <a:cubicBezTo>
                  <a:pt x="712" y="17162"/>
                  <a:pt x="947" y="17142"/>
                  <a:pt x="1191" y="17115"/>
                </a:cubicBezTo>
                <a:cubicBezTo>
                  <a:pt x="1318" y="17101"/>
                  <a:pt x="1438" y="17049"/>
                  <a:pt x="1563" y="17041"/>
                </a:cubicBezTo>
                <a:cubicBezTo>
                  <a:pt x="1761" y="17028"/>
                  <a:pt x="1961" y="17029"/>
                  <a:pt x="2158" y="17016"/>
                </a:cubicBezTo>
                <a:cubicBezTo>
                  <a:pt x="2961" y="16962"/>
                  <a:pt x="3785" y="16993"/>
                  <a:pt x="4589" y="16966"/>
                </a:cubicBezTo>
                <a:cubicBezTo>
                  <a:pt x="4880" y="16956"/>
                  <a:pt x="5168" y="16931"/>
                  <a:pt x="5457" y="16917"/>
                </a:cubicBezTo>
                <a:cubicBezTo>
                  <a:pt x="5575" y="16911"/>
                  <a:pt x="5701" y="16906"/>
                  <a:pt x="5804" y="16892"/>
                </a:cubicBezTo>
                <a:cubicBezTo>
                  <a:pt x="5804" y="16660"/>
                  <a:pt x="5936" y="15985"/>
                  <a:pt x="5779" y="15801"/>
                </a:cubicBezTo>
                <a:cubicBezTo>
                  <a:pt x="5744" y="15760"/>
                  <a:pt x="5682" y="15776"/>
                  <a:pt x="5631" y="15776"/>
                </a:cubicBezTo>
                <a:cubicBezTo>
                  <a:pt x="5549" y="15776"/>
                  <a:pt x="5488" y="15796"/>
                  <a:pt x="5407" y="15801"/>
                </a:cubicBezTo>
                <a:cubicBezTo>
                  <a:pt x="5314" y="15807"/>
                  <a:pt x="5226" y="15811"/>
                  <a:pt x="5135" y="15825"/>
                </a:cubicBezTo>
                <a:cubicBezTo>
                  <a:pt x="5073" y="15834"/>
                  <a:pt x="4997" y="15836"/>
                  <a:pt x="4936" y="15850"/>
                </a:cubicBezTo>
                <a:cubicBezTo>
                  <a:pt x="4812" y="15878"/>
                  <a:pt x="4714" y="15887"/>
                  <a:pt x="4589" y="15900"/>
                </a:cubicBezTo>
                <a:cubicBezTo>
                  <a:pt x="4488" y="15910"/>
                  <a:pt x="4372" y="15915"/>
                  <a:pt x="4266" y="15925"/>
                </a:cubicBezTo>
                <a:cubicBezTo>
                  <a:pt x="4170" y="15934"/>
                  <a:pt x="4092" y="15947"/>
                  <a:pt x="3994" y="15949"/>
                </a:cubicBezTo>
                <a:cubicBezTo>
                  <a:pt x="3893" y="15951"/>
                  <a:pt x="3762" y="15978"/>
                  <a:pt x="3671" y="15974"/>
                </a:cubicBezTo>
                <a:cubicBezTo>
                  <a:pt x="3590" y="15971"/>
                  <a:pt x="3482" y="15958"/>
                  <a:pt x="3398" y="15949"/>
                </a:cubicBezTo>
                <a:cubicBezTo>
                  <a:pt x="3320" y="15940"/>
                  <a:pt x="3252" y="15929"/>
                  <a:pt x="3175" y="15925"/>
                </a:cubicBezTo>
                <a:cubicBezTo>
                  <a:pt x="3023" y="15917"/>
                  <a:pt x="2873" y="15941"/>
                  <a:pt x="2729" y="15949"/>
                </a:cubicBezTo>
                <a:cubicBezTo>
                  <a:pt x="2618" y="15955"/>
                  <a:pt x="2515" y="15959"/>
                  <a:pt x="2406" y="15974"/>
                </a:cubicBezTo>
                <a:cubicBezTo>
                  <a:pt x="2306" y="15987"/>
                  <a:pt x="2210" y="15997"/>
                  <a:pt x="2108" y="15999"/>
                </a:cubicBezTo>
                <a:cubicBezTo>
                  <a:pt x="1978" y="16002"/>
                  <a:pt x="1834" y="15970"/>
                  <a:pt x="1712" y="15974"/>
                </a:cubicBezTo>
                <a:cubicBezTo>
                  <a:pt x="1625" y="15977"/>
                  <a:pt x="1533" y="15999"/>
                  <a:pt x="1439" y="15999"/>
                </a:cubicBezTo>
                <a:cubicBezTo>
                  <a:pt x="1359" y="15999"/>
                  <a:pt x="1249" y="15999"/>
                  <a:pt x="1191" y="15999"/>
                </a:cubicBezTo>
                <a:cubicBezTo>
                  <a:pt x="973" y="15999"/>
                  <a:pt x="760" y="15985"/>
                  <a:pt x="546" y="15974"/>
                </a:cubicBezTo>
                <a:cubicBezTo>
                  <a:pt x="424" y="15968"/>
                  <a:pt x="302" y="15988"/>
                  <a:pt x="198" y="15999"/>
                </a:cubicBezTo>
                <a:cubicBezTo>
                  <a:pt x="190" y="15999"/>
                  <a:pt x="182" y="15999"/>
                  <a:pt x="17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200" y="5803920"/>
            <a:ext cx="339840" cy="287280"/>
          </a:xfrm>
          <a:custGeom>
            <a:avLst/>
            <a:gdLst/>
            <a:ahLst/>
            <a:rect l="l" t="t" r="r" b="b"/>
            <a:pathLst>
              <a:path w="943" h="795">
                <a:moveTo>
                  <a:pt x="744" y="16148"/>
                </a:moveTo>
                <a:cubicBezTo>
                  <a:pt x="724" y="16346"/>
                  <a:pt x="663" y="16531"/>
                  <a:pt x="595" y="16718"/>
                </a:cubicBezTo>
                <a:cubicBezTo>
                  <a:pt x="555" y="16818"/>
                  <a:pt x="551" y="16836"/>
                  <a:pt x="521" y="16892"/>
                </a:cubicBezTo>
                <a:cubicBezTo>
                  <a:pt x="577" y="16637"/>
                  <a:pt x="647" y="16441"/>
                  <a:pt x="794" y="16222"/>
                </a:cubicBezTo>
                <a:cubicBezTo>
                  <a:pt x="819" y="16189"/>
                  <a:pt x="843" y="16156"/>
                  <a:pt x="868" y="16123"/>
                </a:cubicBezTo>
                <a:cubicBezTo>
                  <a:pt x="1026" y="16252"/>
                  <a:pt x="1035" y="16454"/>
                  <a:pt x="992" y="16669"/>
                </a:cubicBezTo>
                <a:cubicBezTo>
                  <a:pt x="967" y="16795"/>
                  <a:pt x="926" y="16824"/>
                  <a:pt x="868" y="16917"/>
                </a:cubicBezTo>
              </a:path>
              <a:path w="943" h="795">
                <a:moveTo>
                  <a:pt x="571" y="16594"/>
                </a:moveTo>
                <a:cubicBezTo>
                  <a:pt x="683" y="16562"/>
                  <a:pt x="821" y="16491"/>
                  <a:pt x="943" y="16495"/>
                </a:cubicBezTo>
                <a:cubicBezTo>
                  <a:pt x="959" y="16503"/>
                  <a:pt x="976" y="16512"/>
                  <a:pt x="992" y="16520"/>
                </a:cubicBezTo>
              </a:path>
              <a:path w="943" h="795">
                <a:moveTo>
                  <a:pt x="1240" y="16371"/>
                </a:moveTo>
                <a:cubicBezTo>
                  <a:pt x="1318" y="16340"/>
                  <a:pt x="1379" y="16328"/>
                  <a:pt x="1463" y="16321"/>
                </a:cubicBezTo>
              </a:path>
              <a:path w="943" h="795">
                <a:moveTo>
                  <a:pt x="1315" y="16619"/>
                </a:moveTo>
                <a:cubicBezTo>
                  <a:pt x="1364" y="16594"/>
                  <a:pt x="1381" y="16586"/>
                  <a:pt x="1414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960" y="5803920"/>
            <a:ext cx="803160" cy="241200"/>
          </a:xfrm>
          <a:custGeom>
            <a:avLst/>
            <a:gdLst/>
            <a:ahLst/>
            <a:rect l="l" t="t" r="r" b="b"/>
            <a:pathLst>
              <a:path w="2234" h="671">
                <a:moveTo>
                  <a:pt x="2034" y="16346"/>
                </a:moveTo>
                <a:cubicBezTo>
                  <a:pt x="2108" y="16297"/>
                  <a:pt x="2133" y="16280"/>
                  <a:pt x="2183" y="16247"/>
                </a:cubicBezTo>
                <a:cubicBezTo>
                  <a:pt x="2228" y="16397"/>
                  <a:pt x="2195" y="16443"/>
                  <a:pt x="2084" y="16545"/>
                </a:cubicBezTo>
                <a:cubicBezTo>
                  <a:pt x="2001" y="16518"/>
                  <a:pt x="2192" y="16502"/>
                  <a:pt x="2183" y="16644"/>
                </a:cubicBezTo>
                <a:cubicBezTo>
                  <a:pt x="2168" y="16867"/>
                  <a:pt x="1969" y="16789"/>
                  <a:pt x="1860" y="16718"/>
                </a:cubicBezTo>
              </a:path>
              <a:path w="2234" h="671">
                <a:moveTo>
                  <a:pt x="2480" y="16247"/>
                </a:moveTo>
                <a:cubicBezTo>
                  <a:pt x="2461" y="16372"/>
                  <a:pt x="2375" y="16514"/>
                  <a:pt x="2381" y="16644"/>
                </a:cubicBezTo>
                <a:cubicBezTo>
                  <a:pt x="2389" y="16652"/>
                  <a:pt x="2398" y="16661"/>
                  <a:pt x="2406" y="16669"/>
                </a:cubicBezTo>
                <a:cubicBezTo>
                  <a:pt x="2563" y="16706"/>
                  <a:pt x="2677" y="16712"/>
                  <a:pt x="2753" y="16545"/>
                </a:cubicBezTo>
                <a:cubicBezTo>
                  <a:pt x="2753" y="16528"/>
                  <a:pt x="2753" y="16512"/>
                  <a:pt x="2753" y="16495"/>
                </a:cubicBezTo>
                <a:cubicBezTo>
                  <a:pt x="2625" y="16507"/>
                  <a:pt x="2487" y="16529"/>
                  <a:pt x="2480" y="16694"/>
                </a:cubicBezTo>
                <a:cubicBezTo>
                  <a:pt x="2488" y="16710"/>
                  <a:pt x="2497" y="16727"/>
                  <a:pt x="2505" y="16743"/>
                </a:cubicBezTo>
              </a:path>
              <a:path w="2234" h="671">
                <a:moveTo>
                  <a:pt x="2877" y="16297"/>
                </a:moveTo>
                <a:cubicBezTo>
                  <a:pt x="2800" y="16348"/>
                  <a:pt x="2912" y="16216"/>
                  <a:pt x="2952" y="16197"/>
                </a:cubicBezTo>
                <a:cubicBezTo>
                  <a:pt x="3030" y="16160"/>
                  <a:pt x="3079" y="16191"/>
                  <a:pt x="3150" y="16222"/>
                </a:cubicBezTo>
                <a:cubicBezTo>
                  <a:pt x="3086" y="16389"/>
                  <a:pt x="3029" y="16554"/>
                  <a:pt x="2952" y="16718"/>
                </a:cubicBezTo>
              </a:path>
              <a:path w="2234" h="671">
                <a:moveTo>
                  <a:pt x="3398" y="16694"/>
                </a:moveTo>
                <a:cubicBezTo>
                  <a:pt x="3353" y="16705"/>
                  <a:pt x="3224" y="16808"/>
                  <a:pt x="3324" y="16768"/>
                </a:cubicBezTo>
                <a:cubicBezTo>
                  <a:pt x="3332" y="16760"/>
                  <a:pt x="3341" y="16751"/>
                  <a:pt x="3349" y="16743"/>
                </a:cubicBezTo>
              </a:path>
              <a:path w="2234" h="671">
                <a:moveTo>
                  <a:pt x="3994" y="16148"/>
                </a:moveTo>
                <a:cubicBezTo>
                  <a:pt x="3799" y="16137"/>
                  <a:pt x="3808" y="16098"/>
                  <a:pt x="3721" y="16272"/>
                </a:cubicBezTo>
                <a:cubicBezTo>
                  <a:pt x="3679" y="16355"/>
                  <a:pt x="3671" y="16371"/>
                  <a:pt x="3646" y="16421"/>
                </a:cubicBezTo>
                <a:cubicBezTo>
                  <a:pt x="3744" y="16376"/>
                  <a:pt x="3895" y="16242"/>
                  <a:pt x="4018" y="16297"/>
                </a:cubicBezTo>
                <a:cubicBezTo>
                  <a:pt x="4043" y="16322"/>
                  <a:pt x="4068" y="16346"/>
                  <a:pt x="4093" y="16371"/>
                </a:cubicBezTo>
                <a:cubicBezTo>
                  <a:pt x="4072" y="16535"/>
                  <a:pt x="4041" y="16636"/>
                  <a:pt x="3845" y="16619"/>
                </a:cubicBezTo>
                <a:cubicBezTo>
                  <a:pt x="3758" y="16612"/>
                  <a:pt x="3660" y="16513"/>
                  <a:pt x="3746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3680" y="5749920"/>
            <a:ext cx="287280" cy="250920"/>
          </a:xfrm>
          <a:custGeom>
            <a:avLst/>
            <a:gdLst/>
            <a:ahLst/>
            <a:rect l="l" t="t" r="r" b="b"/>
            <a:pathLst>
              <a:path w="795" h="696">
                <a:moveTo>
                  <a:pt x="4589" y="16396"/>
                </a:moveTo>
                <a:cubicBezTo>
                  <a:pt x="4571" y="16490"/>
                  <a:pt x="4560" y="16577"/>
                  <a:pt x="4539" y="16669"/>
                </a:cubicBezTo>
                <a:cubicBezTo>
                  <a:pt x="4544" y="16605"/>
                  <a:pt x="4563" y="16291"/>
                  <a:pt x="4713" y="16346"/>
                </a:cubicBezTo>
                <a:cubicBezTo>
                  <a:pt x="4800" y="16378"/>
                  <a:pt x="4804" y="16553"/>
                  <a:pt x="4812" y="16619"/>
                </a:cubicBezTo>
                <a:cubicBezTo>
                  <a:pt x="4817" y="16567"/>
                  <a:pt x="4880" y="16177"/>
                  <a:pt x="4961" y="16421"/>
                </a:cubicBezTo>
                <a:cubicBezTo>
                  <a:pt x="4981" y="16520"/>
                  <a:pt x="4989" y="16535"/>
                  <a:pt x="4986" y="16594"/>
                </a:cubicBezTo>
              </a:path>
              <a:path w="795" h="696">
                <a:moveTo>
                  <a:pt x="5085" y="15974"/>
                </a:moveTo>
                <a:cubicBezTo>
                  <a:pt x="5208" y="15982"/>
                  <a:pt x="5373" y="16015"/>
                  <a:pt x="5308" y="16197"/>
                </a:cubicBezTo>
                <a:cubicBezTo>
                  <a:pt x="5261" y="16329"/>
                  <a:pt x="5170" y="16313"/>
                  <a:pt x="5060" y="16321"/>
                </a:cubicBezTo>
                <a:cubicBezTo>
                  <a:pt x="5069" y="16259"/>
                  <a:pt x="5098" y="16194"/>
                  <a:pt x="5184" y="16197"/>
                </a:cubicBezTo>
                <a:cubicBezTo>
                  <a:pt x="5269" y="16200"/>
                  <a:pt x="5295" y="16261"/>
                  <a:pt x="5333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4760" y="2581200"/>
            <a:ext cx="1992240" cy="581040"/>
          </a:xfrm>
          <a:custGeom>
            <a:avLst/>
            <a:gdLst/>
            <a:ahLst/>
            <a:rect l="l" t="t" r="r" b="b"/>
            <a:pathLst>
              <a:path w="5532" h="1613">
                <a:moveTo>
                  <a:pt x="1240" y="7541"/>
                </a:moveTo>
                <a:cubicBezTo>
                  <a:pt x="1518" y="7587"/>
                  <a:pt x="1303" y="7941"/>
                  <a:pt x="1240" y="8136"/>
                </a:cubicBezTo>
                <a:cubicBezTo>
                  <a:pt x="1189" y="8293"/>
                  <a:pt x="1121" y="8488"/>
                  <a:pt x="1042" y="8632"/>
                </a:cubicBezTo>
                <a:cubicBezTo>
                  <a:pt x="1067" y="8405"/>
                  <a:pt x="1118" y="8187"/>
                  <a:pt x="1166" y="7962"/>
                </a:cubicBezTo>
                <a:cubicBezTo>
                  <a:pt x="1221" y="7704"/>
                  <a:pt x="1273" y="7472"/>
                  <a:pt x="1488" y="7342"/>
                </a:cubicBezTo>
                <a:cubicBezTo>
                  <a:pt x="1605" y="7701"/>
                  <a:pt x="1582" y="7986"/>
                  <a:pt x="1513" y="8359"/>
                </a:cubicBezTo>
                <a:cubicBezTo>
                  <a:pt x="1505" y="8400"/>
                  <a:pt x="1496" y="8442"/>
                  <a:pt x="1488" y="8483"/>
                </a:cubicBezTo>
              </a:path>
              <a:path w="5532" h="1613">
                <a:moveTo>
                  <a:pt x="1166" y="8186"/>
                </a:moveTo>
                <a:cubicBezTo>
                  <a:pt x="1319" y="8172"/>
                  <a:pt x="1462" y="8122"/>
                  <a:pt x="1612" y="8086"/>
                </a:cubicBezTo>
              </a:path>
              <a:path w="5532" h="1613">
                <a:moveTo>
                  <a:pt x="1960" y="8161"/>
                </a:moveTo>
                <a:cubicBezTo>
                  <a:pt x="2076" y="8115"/>
                  <a:pt x="2184" y="8089"/>
                  <a:pt x="2307" y="8062"/>
                </a:cubicBezTo>
              </a:path>
              <a:path w="5532" h="1613">
                <a:moveTo>
                  <a:pt x="1935" y="8334"/>
                </a:moveTo>
                <a:cubicBezTo>
                  <a:pt x="2051" y="8312"/>
                  <a:pt x="2164" y="8285"/>
                  <a:pt x="2282" y="8285"/>
                </a:cubicBezTo>
              </a:path>
              <a:path w="5532" h="1613">
                <a:moveTo>
                  <a:pt x="2803" y="7590"/>
                </a:moveTo>
                <a:cubicBezTo>
                  <a:pt x="2769" y="7826"/>
                  <a:pt x="2718" y="8079"/>
                  <a:pt x="2654" y="8310"/>
                </a:cubicBezTo>
                <a:cubicBezTo>
                  <a:pt x="2637" y="8351"/>
                  <a:pt x="2621" y="8393"/>
                  <a:pt x="2604" y="8434"/>
                </a:cubicBezTo>
              </a:path>
              <a:path w="5532" h="1613">
                <a:moveTo>
                  <a:pt x="3051" y="7640"/>
                </a:moveTo>
                <a:cubicBezTo>
                  <a:pt x="3149" y="7574"/>
                  <a:pt x="3237" y="7583"/>
                  <a:pt x="3349" y="7565"/>
                </a:cubicBezTo>
                <a:cubicBezTo>
                  <a:pt x="3382" y="7557"/>
                  <a:pt x="3415" y="7549"/>
                  <a:pt x="3448" y="7541"/>
                </a:cubicBezTo>
                <a:cubicBezTo>
                  <a:pt x="3434" y="7732"/>
                  <a:pt x="3303" y="7995"/>
                  <a:pt x="3200" y="8186"/>
                </a:cubicBezTo>
                <a:cubicBezTo>
                  <a:pt x="3183" y="8211"/>
                  <a:pt x="3167" y="8235"/>
                  <a:pt x="3150" y="8260"/>
                </a:cubicBezTo>
              </a:path>
              <a:path w="5532" h="1613">
                <a:moveTo>
                  <a:pt x="3051" y="7193"/>
                </a:moveTo>
                <a:cubicBezTo>
                  <a:pt x="2842" y="7142"/>
                  <a:pt x="2808" y="7260"/>
                  <a:pt x="2704" y="7441"/>
                </a:cubicBezTo>
                <a:cubicBezTo>
                  <a:pt x="2533" y="7738"/>
                  <a:pt x="2362" y="8131"/>
                  <a:pt x="2356" y="8483"/>
                </a:cubicBezTo>
                <a:cubicBezTo>
                  <a:pt x="2354" y="8636"/>
                  <a:pt x="2438" y="8735"/>
                  <a:pt x="2580" y="8756"/>
                </a:cubicBezTo>
                <a:cubicBezTo>
                  <a:pt x="2588" y="8756"/>
                  <a:pt x="2596" y="8756"/>
                  <a:pt x="2604" y="8756"/>
                </a:cubicBezTo>
              </a:path>
              <a:path w="5532" h="1613">
                <a:moveTo>
                  <a:pt x="4018" y="7689"/>
                </a:moveTo>
                <a:cubicBezTo>
                  <a:pt x="3964" y="7863"/>
                  <a:pt x="3914" y="8033"/>
                  <a:pt x="3870" y="8210"/>
                </a:cubicBezTo>
              </a:path>
              <a:path w="5532" h="1613">
                <a:moveTo>
                  <a:pt x="3721" y="8012"/>
                </a:moveTo>
                <a:cubicBezTo>
                  <a:pt x="3835" y="7976"/>
                  <a:pt x="3952" y="7950"/>
                  <a:pt x="4068" y="7913"/>
                </a:cubicBezTo>
              </a:path>
              <a:path w="5532" h="1613">
                <a:moveTo>
                  <a:pt x="4688" y="7665"/>
                </a:moveTo>
                <a:cubicBezTo>
                  <a:pt x="4701" y="7581"/>
                  <a:pt x="4760" y="7579"/>
                  <a:pt x="4862" y="7541"/>
                </a:cubicBezTo>
                <a:cubicBezTo>
                  <a:pt x="4929" y="7702"/>
                  <a:pt x="4853" y="7879"/>
                  <a:pt x="4663" y="7962"/>
                </a:cubicBezTo>
                <a:cubicBezTo>
                  <a:pt x="4630" y="7962"/>
                  <a:pt x="4597" y="7962"/>
                  <a:pt x="4564" y="7962"/>
                </a:cubicBezTo>
                <a:cubicBezTo>
                  <a:pt x="4682" y="7963"/>
                  <a:pt x="4921" y="8085"/>
                  <a:pt x="4688" y="8210"/>
                </a:cubicBezTo>
                <a:cubicBezTo>
                  <a:pt x="4549" y="8285"/>
                  <a:pt x="4479" y="8242"/>
                  <a:pt x="4415" y="8161"/>
                </a:cubicBezTo>
              </a:path>
              <a:path w="5532" h="1613">
                <a:moveTo>
                  <a:pt x="5035" y="7541"/>
                </a:moveTo>
                <a:cubicBezTo>
                  <a:pt x="5209" y="7558"/>
                  <a:pt x="5337" y="7658"/>
                  <a:pt x="5308" y="7863"/>
                </a:cubicBezTo>
                <a:cubicBezTo>
                  <a:pt x="5280" y="8064"/>
                  <a:pt x="5073" y="8172"/>
                  <a:pt x="4911" y="8136"/>
                </a:cubicBezTo>
                <a:cubicBezTo>
                  <a:pt x="4990" y="7994"/>
                  <a:pt x="5088" y="7820"/>
                  <a:pt x="5234" y="8037"/>
                </a:cubicBezTo>
                <a:cubicBezTo>
                  <a:pt x="5276" y="8144"/>
                  <a:pt x="5287" y="8168"/>
                  <a:pt x="5308" y="8235"/>
                </a:cubicBezTo>
              </a:path>
              <a:path w="5532" h="1613">
                <a:moveTo>
                  <a:pt x="5110" y="7193"/>
                </a:moveTo>
                <a:cubicBezTo>
                  <a:pt x="5351" y="7408"/>
                  <a:pt x="5532" y="7622"/>
                  <a:pt x="5556" y="7962"/>
                </a:cubicBezTo>
                <a:cubicBezTo>
                  <a:pt x="5579" y="8287"/>
                  <a:pt x="5413" y="8390"/>
                  <a:pt x="5234" y="8607"/>
                </a:cubicBezTo>
              </a:path>
              <a:path w="5532" h="1613">
                <a:moveTo>
                  <a:pt x="5829" y="7689"/>
                </a:moveTo>
                <a:cubicBezTo>
                  <a:pt x="5801" y="7922"/>
                  <a:pt x="5768" y="8153"/>
                  <a:pt x="5730" y="8384"/>
                </a:cubicBezTo>
                <a:cubicBezTo>
                  <a:pt x="5730" y="8392"/>
                  <a:pt x="5730" y="8401"/>
                  <a:pt x="5730" y="8409"/>
                </a:cubicBezTo>
              </a:path>
              <a:path w="5532" h="1613">
                <a:moveTo>
                  <a:pt x="6325" y="7689"/>
                </a:moveTo>
                <a:cubicBezTo>
                  <a:pt x="6127" y="7689"/>
                  <a:pt x="6091" y="7639"/>
                  <a:pt x="6003" y="7863"/>
                </a:cubicBezTo>
                <a:cubicBezTo>
                  <a:pt x="5985" y="7954"/>
                  <a:pt x="5976" y="7961"/>
                  <a:pt x="5978" y="8012"/>
                </a:cubicBezTo>
                <a:cubicBezTo>
                  <a:pt x="6073" y="7980"/>
                  <a:pt x="6204" y="7881"/>
                  <a:pt x="6300" y="7938"/>
                </a:cubicBezTo>
                <a:cubicBezTo>
                  <a:pt x="6482" y="8046"/>
                  <a:pt x="6246" y="8198"/>
                  <a:pt x="6152" y="8235"/>
                </a:cubicBezTo>
                <a:cubicBezTo>
                  <a:pt x="6052" y="8274"/>
                  <a:pt x="6058" y="8251"/>
                  <a:pt x="5978" y="8235"/>
                </a:cubicBezTo>
              </a:path>
              <a:path w="5532" h="1613">
                <a:moveTo>
                  <a:pt x="2505" y="8781"/>
                </a:moveTo>
                <a:cubicBezTo>
                  <a:pt x="2810" y="8735"/>
                  <a:pt x="3115" y="8707"/>
                  <a:pt x="3423" y="8682"/>
                </a:cubicBezTo>
                <a:cubicBezTo>
                  <a:pt x="3989" y="8636"/>
                  <a:pt x="4544" y="8598"/>
                  <a:pt x="5110" y="8607"/>
                </a:cubicBezTo>
                <a:cubicBezTo>
                  <a:pt x="5472" y="8613"/>
                  <a:pt x="5840" y="8607"/>
                  <a:pt x="6201" y="8582"/>
                </a:cubicBezTo>
                <a:cubicBezTo>
                  <a:pt x="6329" y="8573"/>
                  <a:pt x="6446" y="8562"/>
                  <a:pt x="6573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the parts of a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362320" cy="22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392560" cy="2333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360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692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95" y="19025"/>
                </a:moveTo>
                <a:lnTo>
                  <a:pt x="3795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09840" y="681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92" y="18926"/>
                </a:moveTo>
                <a:lnTo>
                  <a:pt x="4192" y="189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9040" y="6724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15" y="18678"/>
                </a:moveTo>
                <a:lnTo>
                  <a:pt x="4415" y="18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6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460600" y="2937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ing the Area of a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80" y="1066680"/>
            <a:ext cx="80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area of a circle wit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s of 3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rea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3200" y="2133720"/>
            <a:ext cx="11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2400" spc="-1" strike="noStrike">
                <a:solidFill>
                  <a:srgbClr val="ff001a"/>
                </a:solidFill>
                <a:latin typeface="Arial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55560" y="2666880"/>
            <a:ext cx="1499400" cy="459720"/>
            <a:chOff x="1555560" y="2666880"/>
            <a:chExt cx="1499400" cy="459720"/>
          </a:xfrm>
        </p:grpSpPr>
        <p:sp>
          <p:nvSpPr>
            <p:cNvPr id="79" name=""/>
            <p:cNvSpPr/>
            <p:nvPr/>
          </p:nvSpPr>
          <p:spPr>
            <a:xfrm>
              <a:off x="1840680" y="266688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14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-Seve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Italic"/>
                </a:rPr>
                <a:t>)</a:t>
              </a:r>
              <a:r>
                <a:rPr b="1" i="1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55560" y="266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3880" y="434340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32480" y="2152800"/>
            <a:ext cx="45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formula for area of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09840" y="2724120"/>
            <a:ext cx="39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π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1840" y="434340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8040" y="5029200"/>
            <a:ext cx="7239960" cy="1183680"/>
            <a:chOff x="608040" y="5029200"/>
            <a:chExt cx="7239960" cy="1183680"/>
          </a:xfrm>
        </p:grpSpPr>
        <p:sp>
          <p:nvSpPr>
            <p:cNvPr id="86" name=""/>
            <p:cNvSpPr/>
            <p:nvPr/>
          </p:nvSpPr>
          <p:spPr>
            <a:xfrm>
              <a:off x="608040" y="5753160"/>
              <a:ext cx="723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area of the circle i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.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quare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480" y="5029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4792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.14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6920" y="6296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6" y="17487"/>
                </a:moveTo>
                <a:lnTo>
                  <a:pt x="546" y="174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5880" y="609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83" y="16942"/>
                </a:moveTo>
                <a:lnTo>
                  <a:pt x="2183" y="169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5880" y="6215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32" y="17264"/>
                </a:moveTo>
                <a:lnTo>
                  <a:pt x="5432" y="172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3240" y="339840"/>
            <a:ext cx="2187720" cy="687240"/>
          </a:xfrm>
          <a:custGeom>
            <a:avLst/>
            <a:gdLst/>
            <a:ahLst/>
            <a:rect l="l" t="t" r="r" b="b"/>
            <a:pathLst>
              <a:path w="6078" h="1911">
                <a:moveTo>
                  <a:pt x="18951" y="967"/>
                </a:moveTo>
                <a:cubicBezTo>
                  <a:pt x="18818" y="977"/>
                  <a:pt x="18651" y="1006"/>
                  <a:pt x="18529" y="1067"/>
                </a:cubicBezTo>
                <a:cubicBezTo>
                  <a:pt x="18412" y="1125"/>
                  <a:pt x="18307" y="1185"/>
                  <a:pt x="18231" y="1290"/>
                </a:cubicBezTo>
                <a:cubicBezTo>
                  <a:pt x="18152" y="1399"/>
                  <a:pt x="18100" y="1536"/>
                  <a:pt x="18058" y="1662"/>
                </a:cubicBezTo>
                <a:cubicBezTo>
                  <a:pt x="18019" y="1780"/>
                  <a:pt x="18011" y="1912"/>
                  <a:pt x="18008" y="2034"/>
                </a:cubicBezTo>
                <a:cubicBezTo>
                  <a:pt x="18005" y="2161"/>
                  <a:pt x="18011" y="2285"/>
                  <a:pt x="18058" y="2406"/>
                </a:cubicBezTo>
                <a:cubicBezTo>
                  <a:pt x="18110" y="2541"/>
                  <a:pt x="18200" y="2612"/>
                  <a:pt x="18306" y="2704"/>
                </a:cubicBezTo>
                <a:cubicBezTo>
                  <a:pt x="18450" y="2828"/>
                  <a:pt x="18546" y="2853"/>
                  <a:pt x="18728" y="2853"/>
                </a:cubicBezTo>
                <a:cubicBezTo>
                  <a:pt x="18913" y="2853"/>
                  <a:pt x="19089" y="2794"/>
                  <a:pt x="19273" y="2778"/>
                </a:cubicBezTo>
                <a:cubicBezTo>
                  <a:pt x="19378" y="2769"/>
                  <a:pt x="19456" y="2741"/>
                  <a:pt x="19546" y="2679"/>
                </a:cubicBezTo>
                <a:cubicBezTo>
                  <a:pt x="19631" y="2620"/>
                  <a:pt x="19715" y="2544"/>
                  <a:pt x="19769" y="2456"/>
                </a:cubicBezTo>
                <a:cubicBezTo>
                  <a:pt x="19816" y="2379"/>
                  <a:pt x="19896" y="2267"/>
                  <a:pt x="19918" y="2183"/>
                </a:cubicBezTo>
                <a:cubicBezTo>
                  <a:pt x="19938" y="2106"/>
                  <a:pt x="19952" y="1993"/>
                  <a:pt x="19943" y="1910"/>
                </a:cubicBezTo>
                <a:cubicBezTo>
                  <a:pt x="19935" y="1835"/>
                  <a:pt x="19902" y="1758"/>
                  <a:pt x="19893" y="1687"/>
                </a:cubicBezTo>
                <a:cubicBezTo>
                  <a:pt x="19881" y="1588"/>
                  <a:pt x="19838" y="1508"/>
                  <a:pt x="19794" y="1414"/>
                </a:cubicBezTo>
                <a:cubicBezTo>
                  <a:pt x="19760" y="1341"/>
                  <a:pt x="19724" y="1299"/>
                  <a:pt x="19670" y="1240"/>
                </a:cubicBezTo>
                <a:cubicBezTo>
                  <a:pt x="19607" y="1171"/>
                  <a:pt x="19549" y="1139"/>
                  <a:pt x="19472" y="1091"/>
                </a:cubicBezTo>
                <a:cubicBezTo>
                  <a:pt x="19407" y="1051"/>
                  <a:pt x="19343" y="999"/>
                  <a:pt x="19273" y="967"/>
                </a:cubicBezTo>
                <a:cubicBezTo>
                  <a:pt x="19216" y="941"/>
                  <a:pt x="19187" y="945"/>
                  <a:pt x="19124" y="943"/>
                </a:cubicBezTo>
                <a:cubicBezTo>
                  <a:pt x="19038" y="940"/>
                  <a:pt x="18961" y="960"/>
                  <a:pt x="18876" y="967"/>
                </a:cubicBezTo>
              </a:path>
              <a:path w="6078" h="1911">
                <a:moveTo>
                  <a:pt x="19025" y="1885"/>
                </a:moveTo>
                <a:cubicBezTo>
                  <a:pt x="18951" y="1885"/>
                  <a:pt x="18972" y="1879"/>
                  <a:pt x="18926" y="1935"/>
                </a:cubicBezTo>
                <a:cubicBezTo>
                  <a:pt x="19014" y="1897"/>
                  <a:pt x="19101" y="1910"/>
                  <a:pt x="19199" y="1910"/>
                </a:cubicBezTo>
                <a:cubicBezTo>
                  <a:pt x="19297" y="1910"/>
                  <a:pt x="19378" y="1929"/>
                  <a:pt x="19472" y="1935"/>
                </a:cubicBezTo>
                <a:cubicBezTo>
                  <a:pt x="19532" y="1939"/>
                  <a:pt x="19580" y="1960"/>
                  <a:pt x="19645" y="1960"/>
                </a:cubicBezTo>
                <a:cubicBezTo>
                  <a:pt x="19731" y="1960"/>
                  <a:pt x="19789" y="1966"/>
                  <a:pt x="19869" y="1984"/>
                </a:cubicBezTo>
                <a:cubicBezTo>
                  <a:pt x="19920" y="1996"/>
                  <a:pt x="19988" y="1984"/>
                  <a:pt x="20042" y="1984"/>
                </a:cubicBezTo>
              </a:path>
              <a:path w="6078" h="1911">
                <a:moveTo>
                  <a:pt x="19273" y="1488"/>
                </a:moveTo>
                <a:cubicBezTo>
                  <a:pt x="19354" y="1474"/>
                  <a:pt x="19365" y="1474"/>
                  <a:pt x="19447" y="1488"/>
                </a:cubicBezTo>
                <a:cubicBezTo>
                  <a:pt x="19435" y="1570"/>
                  <a:pt x="19418" y="1607"/>
                  <a:pt x="19348" y="1637"/>
                </a:cubicBezTo>
                <a:cubicBezTo>
                  <a:pt x="19435" y="1676"/>
                  <a:pt x="19528" y="1685"/>
                  <a:pt x="19422" y="1761"/>
                </a:cubicBezTo>
                <a:cubicBezTo>
                  <a:pt x="19359" y="1804"/>
                  <a:pt x="19347" y="1820"/>
                  <a:pt x="19298" y="1811"/>
                </a:cubicBezTo>
              </a:path>
              <a:path w="6078" h="1911">
                <a:moveTo>
                  <a:pt x="18976" y="2034"/>
                </a:moveTo>
                <a:cubicBezTo>
                  <a:pt x="18918" y="1930"/>
                  <a:pt x="18891" y="1942"/>
                  <a:pt x="18876" y="2059"/>
                </a:cubicBezTo>
                <a:cubicBezTo>
                  <a:pt x="18957" y="2002"/>
                  <a:pt x="19034" y="1882"/>
                  <a:pt x="18876" y="1935"/>
                </a:cubicBezTo>
                <a:cubicBezTo>
                  <a:pt x="18853" y="2083"/>
                  <a:pt x="18989" y="1912"/>
                  <a:pt x="18951" y="1860"/>
                </a:cubicBezTo>
                <a:cubicBezTo>
                  <a:pt x="18911" y="1805"/>
                  <a:pt x="18879" y="1897"/>
                  <a:pt x="18876" y="1910"/>
                </a:cubicBezTo>
              </a:path>
              <a:path w="6078" h="1911">
                <a:moveTo>
                  <a:pt x="20786" y="1265"/>
                </a:moveTo>
                <a:cubicBezTo>
                  <a:pt x="20786" y="1459"/>
                  <a:pt x="20782" y="1646"/>
                  <a:pt x="20811" y="1836"/>
                </a:cubicBezTo>
              </a:path>
              <a:path w="6078" h="1911">
                <a:moveTo>
                  <a:pt x="21134" y="1315"/>
                </a:moveTo>
                <a:cubicBezTo>
                  <a:pt x="21152" y="1524"/>
                  <a:pt x="21158" y="1725"/>
                  <a:pt x="21158" y="1935"/>
                </a:cubicBezTo>
              </a:path>
              <a:path w="6078" h="1911">
                <a:moveTo>
                  <a:pt x="20464" y="1513"/>
                </a:moveTo>
                <a:cubicBezTo>
                  <a:pt x="20442" y="1403"/>
                  <a:pt x="20464" y="1296"/>
                  <a:pt x="20563" y="1215"/>
                </a:cubicBezTo>
                <a:cubicBezTo>
                  <a:pt x="20716" y="1089"/>
                  <a:pt x="20738" y="1175"/>
                  <a:pt x="20861" y="1265"/>
                </a:cubicBezTo>
                <a:cubicBezTo>
                  <a:pt x="21018" y="1380"/>
                  <a:pt x="21128" y="1437"/>
                  <a:pt x="21282" y="1315"/>
                </a:cubicBezTo>
                <a:cubicBezTo>
                  <a:pt x="21372" y="1243"/>
                  <a:pt x="21283" y="1192"/>
                  <a:pt x="21233" y="1116"/>
                </a:cubicBezTo>
              </a:path>
              <a:path w="6078" h="1911">
                <a:moveTo>
                  <a:pt x="21754" y="1513"/>
                </a:moveTo>
                <a:cubicBezTo>
                  <a:pt x="21876" y="1478"/>
                  <a:pt x="21968" y="1463"/>
                  <a:pt x="22101" y="1463"/>
                </a:cubicBezTo>
              </a:path>
              <a:path w="6078" h="1911">
                <a:moveTo>
                  <a:pt x="21803" y="1786"/>
                </a:moveTo>
                <a:cubicBezTo>
                  <a:pt x="21902" y="1766"/>
                  <a:pt x="21918" y="1758"/>
                  <a:pt x="21977" y="1761"/>
                </a:cubicBezTo>
              </a:path>
              <a:path w="6078" h="1911">
                <a:moveTo>
                  <a:pt x="22324" y="1290"/>
                </a:moveTo>
                <a:cubicBezTo>
                  <a:pt x="22519" y="1176"/>
                  <a:pt x="22560" y="1155"/>
                  <a:pt x="22771" y="1240"/>
                </a:cubicBezTo>
                <a:cubicBezTo>
                  <a:pt x="22739" y="1452"/>
                  <a:pt x="22700" y="1500"/>
                  <a:pt x="22498" y="1588"/>
                </a:cubicBezTo>
                <a:cubicBezTo>
                  <a:pt x="22563" y="1457"/>
                  <a:pt x="22698" y="1447"/>
                  <a:pt x="22771" y="1612"/>
                </a:cubicBezTo>
                <a:cubicBezTo>
                  <a:pt x="22877" y="1851"/>
                  <a:pt x="22715" y="1921"/>
                  <a:pt x="22523" y="1935"/>
                </a:cubicBezTo>
                <a:cubicBezTo>
                  <a:pt x="22438" y="1935"/>
                  <a:pt x="22411" y="1948"/>
                  <a:pt x="22399" y="1885"/>
                </a:cubicBezTo>
              </a:path>
              <a:path w="6078" h="1911">
                <a:moveTo>
                  <a:pt x="23068" y="1910"/>
                </a:moveTo>
                <a:cubicBezTo>
                  <a:pt x="23071" y="2076"/>
                  <a:pt x="23173" y="1830"/>
                  <a:pt x="23143" y="1836"/>
                </a:cubicBezTo>
                <a:cubicBezTo>
                  <a:pt x="23060" y="1877"/>
                  <a:pt x="23044" y="1885"/>
                  <a:pt x="22994" y="1910"/>
                </a:cubicBezTo>
              </a:path>
              <a:path w="6078" h="1911">
                <a:moveTo>
                  <a:pt x="23341" y="1315"/>
                </a:moveTo>
                <a:cubicBezTo>
                  <a:pt x="23341" y="1485"/>
                  <a:pt x="23352" y="1644"/>
                  <a:pt x="23366" y="1811"/>
                </a:cubicBezTo>
                <a:cubicBezTo>
                  <a:pt x="23366" y="1836"/>
                  <a:pt x="23366" y="1860"/>
                  <a:pt x="23366" y="1885"/>
                </a:cubicBezTo>
              </a:path>
              <a:path w="6078" h="1911">
                <a:moveTo>
                  <a:pt x="23688" y="1290"/>
                </a:moveTo>
                <a:cubicBezTo>
                  <a:pt x="23688" y="1395"/>
                  <a:pt x="23680" y="1486"/>
                  <a:pt x="23664" y="1588"/>
                </a:cubicBezTo>
                <a:cubicBezTo>
                  <a:pt x="23784" y="1623"/>
                  <a:pt x="23908" y="1612"/>
                  <a:pt x="24036" y="1612"/>
                </a:cubicBezTo>
              </a:path>
              <a:path w="6078" h="1911">
                <a:moveTo>
                  <a:pt x="24036" y="1141"/>
                </a:moveTo>
                <a:cubicBezTo>
                  <a:pt x="24099" y="1266"/>
                  <a:pt x="24080" y="1544"/>
                  <a:pt x="24085" y="1687"/>
                </a:cubicBezTo>
                <a:cubicBezTo>
                  <a:pt x="24089" y="1802"/>
                  <a:pt x="24085" y="1919"/>
                  <a:pt x="24085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10320" y="235728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20861" y="6573"/>
                </a:moveTo>
                <a:cubicBezTo>
                  <a:pt x="20877" y="6565"/>
                  <a:pt x="20894" y="6556"/>
                  <a:pt x="20910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67800" y="1455840"/>
            <a:ext cx="527040" cy="54000"/>
          </a:xfrm>
          <a:custGeom>
            <a:avLst/>
            <a:gdLst/>
            <a:ahLst/>
            <a:rect l="l" t="t" r="r" b="b"/>
            <a:pathLst>
              <a:path w="1464" h="150">
                <a:moveTo>
                  <a:pt x="21853" y="4043"/>
                </a:moveTo>
                <a:cubicBezTo>
                  <a:pt x="21960" y="4043"/>
                  <a:pt x="22070" y="4052"/>
                  <a:pt x="22175" y="4068"/>
                </a:cubicBezTo>
                <a:cubicBezTo>
                  <a:pt x="22333" y="4091"/>
                  <a:pt x="22489" y="4131"/>
                  <a:pt x="22647" y="4142"/>
                </a:cubicBezTo>
                <a:cubicBezTo>
                  <a:pt x="22766" y="4150"/>
                  <a:pt x="22874" y="4167"/>
                  <a:pt x="22994" y="4167"/>
                </a:cubicBezTo>
                <a:cubicBezTo>
                  <a:pt x="23083" y="4167"/>
                  <a:pt x="23159" y="4179"/>
                  <a:pt x="23242" y="4192"/>
                </a:cubicBezTo>
                <a:cubicBezTo>
                  <a:pt x="23283" y="4192"/>
                  <a:pt x="23291" y="4192"/>
                  <a:pt x="23316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0200" y="2463840"/>
            <a:ext cx="1214640" cy="546120"/>
          </a:xfrm>
          <a:custGeom>
            <a:avLst/>
            <a:gdLst/>
            <a:ahLst/>
            <a:rect l="l" t="t" r="r" b="b"/>
            <a:pathLst>
              <a:path w="3374" h="1514">
                <a:moveTo>
                  <a:pt x="5531" y="6995"/>
                </a:moveTo>
                <a:cubicBezTo>
                  <a:pt x="5617" y="7091"/>
                  <a:pt x="5690" y="7206"/>
                  <a:pt x="5755" y="7317"/>
                </a:cubicBezTo>
                <a:cubicBezTo>
                  <a:pt x="5804" y="7401"/>
                  <a:pt x="5847" y="7488"/>
                  <a:pt x="5904" y="7565"/>
                </a:cubicBezTo>
                <a:cubicBezTo>
                  <a:pt x="5912" y="7573"/>
                  <a:pt x="5920" y="7582"/>
                  <a:pt x="5928" y="7590"/>
                </a:cubicBezTo>
              </a:path>
              <a:path w="3374" h="1514">
                <a:moveTo>
                  <a:pt x="5606" y="7491"/>
                </a:moveTo>
                <a:cubicBezTo>
                  <a:pt x="5719" y="7561"/>
                  <a:pt x="5832" y="7613"/>
                  <a:pt x="5953" y="7665"/>
                </a:cubicBezTo>
                <a:cubicBezTo>
                  <a:pt x="5970" y="7673"/>
                  <a:pt x="5986" y="7681"/>
                  <a:pt x="6003" y="7689"/>
                </a:cubicBezTo>
                <a:cubicBezTo>
                  <a:pt x="6030" y="7583"/>
                  <a:pt x="6053" y="7475"/>
                  <a:pt x="6077" y="7367"/>
                </a:cubicBezTo>
                <a:cubicBezTo>
                  <a:pt x="6077" y="7359"/>
                  <a:pt x="6077" y="7350"/>
                  <a:pt x="6077" y="7342"/>
                </a:cubicBezTo>
              </a:path>
              <a:path w="3374" h="1514">
                <a:moveTo>
                  <a:pt x="6226" y="6846"/>
                </a:moveTo>
                <a:cubicBezTo>
                  <a:pt x="6239" y="6891"/>
                  <a:pt x="6279" y="6895"/>
                  <a:pt x="6350" y="6970"/>
                </a:cubicBezTo>
                <a:cubicBezTo>
                  <a:pt x="6419" y="7042"/>
                  <a:pt x="6475" y="7102"/>
                  <a:pt x="6548" y="7169"/>
                </a:cubicBezTo>
                <a:cubicBezTo>
                  <a:pt x="6604" y="7220"/>
                  <a:pt x="6673" y="7258"/>
                  <a:pt x="6722" y="7317"/>
                </a:cubicBezTo>
                <a:cubicBezTo>
                  <a:pt x="6773" y="7378"/>
                  <a:pt x="6829" y="7448"/>
                  <a:pt x="6871" y="7516"/>
                </a:cubicBezTo>
                <a:cubicBezTo>
                  <a:pt x="6919" y="7594"/>
                  <a:pt x="6957" y="7647"/>
                  <a:pt x="7020" y="7714"/>
                </a:cubicBezTo>
                <a:cubicBezTo>
                  <a:pt x="7107" y="7806"/>
                  <a:pt x="7069" y="7682"/>
                  <a:pt x="7069" y="7590"/>
                </a:cubicBezTo>
                <a:cubicBezTo>
                  <a:pt x="7069" y="7557"/>
                  <a:pt x="7069" y="7524"/>
                  <a:pt x="7069" y="7491"/>
                </a:cubicBezTo>
                <a:cubicBezTo>
                  <a:pt x="7058" y="7535"/>
                  <a:pt x="7052" y="7713"/>
                  <a:pt x="7020" y="7739"/>
                </a:cubicBezTo>
                <a:cubicBezTo>
                  <a:pt x="6962" y="7787"/>
                  <a:pt x="6898" y="7661"/>
                  <a:pt x="6846" y="7640"/>
                </a:cubicBezTo>
                <a:cubicBezTo>
                  <a:pt x="6788" y="7616"/>
                  <a:pt x="6725" y="7617"/>
                  <a:pt x="6672" y="7590"/>
                </a:cubicBezTo>
              </a:path>
              <a:path w="3374" h="1514">
                <a:moveTo>
                  <a:pt x="3994" y="7813"/>
                </a:moveTo>
                <a:cubicBezTo>
                  <a:pt x="3903" y="8004"/>
                  <a:pt x="3825" y="8192"/>
                  <a:pt x="3696" y="8359"/>
                </a:cubicBezTo>
                <a:cubicBezTo>
                  <a:pt x="3797" y="8142"/>
                  <a:pt x="3895" y="7920"/>
                  <a:pt x="4018" y="7714"/>
                </a:cubicBezTo>
                <a:cubicBezTo>
                  <a:pt x="4062" y="7649"/>
                  <a:pt x="4068" y="7620"/>
                  <a:pt x="4118" y="7665"/>
                </a:cubicBezTo>
                <a:cubicBezTo>
                  <a:pt x="4176" y="7854"/>
                  <a:pt x="4216" y="8045"/>
                  <a:pt x="4266" y="8235"/>
                </a:cubicBezTo>
              </a:path>
              <a:path w="3374" h="1514">
                <a:moveTo>
                  <a:pt x="3870" y="8086"/>
                </a:moveTo>
                <a:cubicBezTo>
                  <a:pt x="3973" y="8086"/>
                  <a:pt x="4067" y="8066"/>
                  <a:pt x="4167" y="8062"/>
                </a:cubicBezTo>
                <a:cubicBezTo>
                  <a:pt x="4192" y="8062"/>
                  <a:pt x="4217" y="8062"/>
                  <a:pt x="4242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7840" y="1465200"/>
            <a:ext cx="1473120" cy="27000"/>
          </a:xfrm>
          <a:custGeom>
            <a:avLst/>
            <a:gdLst/>
            <a:ahLst/>
            <a:rect l="l" t="t" r="r" b="b"/>
            <a:pathLst>
              <a:path w="4094" h="75">
                <a:moveTo>
                  <a:pt x="13494" y="4068"/>
                </a:moveTo>
                <a:cubicBezTo>
                  <a:pt x="13552" y="4073"/>
                  <a:pt x="13614" y="4088"/>
                  <a:pt x="13667" y="4093"/>
                </a:cubicBezTo>
                <a:cubicBezTo>
                  <a:pt x="13722" y="4098"/>
                  <a:pt x="13799" y="4115"/>
                  <a:pt x="13841" y="4118"/>
                </a:cubicBezTo>
                <a:cubicBezTo>
                  <a:pt x="14023" y="4132"/>
                  <a:pt x="14208" y="4126"/>
                  <a:pt x="14387" y="4142"/>
                </a:cubicBezTo>
                <a:cubicBezTo>
                  <a:pt x="14923" y="4191"/>
                  <a:pt x="15522" y="4164"/>
                  <a:pt x="16049" y="4118"/>
                </a:cubicBezTo>
                <a:cubicBezTo>
                  <a:pt x="16320" y="4094"/>
                  <a:pt x="16598" y="4116"/>
                  <a:pt x="16867" y="4093"/>
                </a:cubicBezTo>
                <a:cubicBezTo>
                  <a:pt x="17103" y="4073"/>
                  <a:pt x="17349" y="4093"/>
                  <a:pt x="17587" y="40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1152360"/>
            <a:ext cx="4502160" cy="2419560"/>
          </a:xfrm>
          <a:custGeom>
            <a:avLst/>
            <a:gdLst/>
            <a:ahLst/>
            <a:rect l="l" t="t" r="r" b="b"/>
            <a:pathLst>
              <a:path w="12503" h="6723">
                <a:moveTo>
                  <a:pt x="2034" y="5135"/>
                </a:moveTo>
                <a:cubicBezTo>
                  <a:pt x="2126" y="5098"/>
                  <a:pt x="2155" y="5085"/>
                  <a:pt x="2257" y="5085"/>
                </a:cubicBezTo>
                <a:cubicBezTo>
                  <a:pt x="2355" y="5085"/>
                  <a:pt x="2430" y="5040"/>
                  <a:pt x="2530" y="5035"/>
                </a:cubicBezTo>
                <a:cubicBezTo>
                  <a:pt x="2605" y="5032"/>
                  <a:pt x="2673" y="5000"/>
                  <a:pt x="2753" y="4986"/>
                </a:cubicBezTo>
                <a:cubicBezTo>
                  <a:pt x="2869" y="4965"/>
                  <a:pt x="2993" y="4993"/>
                  <a:pt x="3101" y="5011"/>
                </a:cubicBezTo>
                <a:cubicBezTo>
                  <a:pt x="3187" y="5026"/>
                  <a:pt x="3286" y="5032"/>
                  <a:pt x="3373" y="5035"/>
                </a:cubicBezTo>
                <a:cubicBezTo>
                  <a:pt x="3414" y="5036"/>
                  <a:pt x="3456" y="5035"/>
                  <a:pt x="3497" y="5035"/>
                </a:cubicBezTo>
              </a:path>
              <a:path w="12503" h="6723">
                <a:moveTo>
                  <a:pt x="3497" y="6300"/>
                </a:moveTo>
                <a:cubicBezTo>
                  <a:pt x="3526" y="6549"/>
                  <a:pt x="3521" y="6748"/>
                  <a:pt x="3497" y="6995"/>
                </a:cubicBezTo>
                <a:cubicBezTo>
                  <a:pt x="3490" y="7072"/>
                  <a:pt x="3497" y="7161"/>
                  <a:pt x="3497" y="7218"/>
                </a:cubicBezTo>
                <a:cubicBezTo>
                  <a:pt x="3609" y="7233"/>
                  <a:pt x="3681" y="7223"/>
                  <a:pt x="3795" y="7218"/>
                </a:cubicBezTo>
                <a:cubicBezTo>
                  <a:pt x="3889" y="7214"/>
                  <a:pt x="3982" y="7237"/>
                  <a:pt x="4068" y="7243"/>
                </a:cubicBezTo>
                <a:cubicBezTo>
                  <a:pt x="4371" y="7264"/>
                  <a:pt x="4692" y="7240"/>
                  <a:pt x="4986" y="7218"/>
                </a:cubicBezTo>
                <a:cubicBezTo>
                  <a:pt x="5207" y="7201"/>
                  <a:pt x="5435" y="7207"/>
                  <a:pt x="5655" y="7193"/>
                </a:cubicBezTo>
                <a:cubicBezTo>
                  <a:pt x="5952" y="7174"/>
                  <a:pt x="6252" y="7187"/>
                  <a:pt x="6548" y="7169"/>
                </a:cubicBezTo>
                <a:cubicBezTo>
                  <a:pt x="6693" y="7160"/>
                  <a:pt x="6831" y="7181"/>
                  <a:pt x="6970" y="7193"/>
                </a:cubicBezTo>
                <a:cubicBezTo>
                  <a:pt x="7020" y="7193"/>
                  <a:pt x="7036" y="7193"/>
                  <a:pt x="7069" y="7193"/>
                </a:cubicBezTo>
                <a:cubicBezTo>
                  <a:pt x="7069" y="7017"/>
                  <a:pt x="7082" y="6840"/>
                  <a:pt x="7094" y="6672"/>
                </a:cubicBezTo>
                <a:cubicBezTo>
                  <a:pt x="7105" y="6524"/>
                  <a:pt x="7107" y="6371"/>
                  <a:pt x="7119" y="6226"/>
                </a:cubicBezTo>
                <a:cubicBezTo>
                  <a:pt x="7125" y="6147"/>
                  <a:pt x="7149" y="6054"/>
                  <a:pt x="7144" y="5978"/>
                </a:cubicBezTo>
                <a:cubicBezTo>
                  <a:pt x="7144" y="5950"/>
                  <a:pt x="7142" y="5939"/>
                  <a:pt x="7119" y="5928"/>
                </a:cubicBezTo>
                <a:cubicBezTo>
                  <a:pt x="7025" y="5908"/>
                  <a:pt x="6943" y="5906"/>
                  <a:pt x="6846" y="5904"/>
                </a:cubicBezTo>
                <a:cubicBezTo>
                  <a:pt x="6628" y="5900"/>
                  <a:pt x="6415" y="5912"/>
                  <a:pt x="6201" y="5928"/>
                </a:cubicBezTo>
                <a:cubicBezTo>
                  <a:pt x="6032" y="5941"/>
                  <a:pt x="5868" y="5913"/>
                  <a:pt x="5705" y="5904"/>
                </a:cubicBezTo>
                <a:cubicBezTo>
                  <a:pt x="5572" y="5896"/>
                  <a:pt x="5437" y="5889"/>
                  <a:pt x="5308" y="5879"/>
                </a:cubicBezTo>
                <a:cubicBezTo>
                  <a:pt x="4837" y="5843"/>
                  <a:pt x="4284" y="5826"/>
                  <a:pt x="3820" y="5854"/>
                </a:cubicBezTo>
                <a:cubicBezTo>
                  <a:pt x="3713" y="5860"/>
                  <a:pt x="3606" y="5875"/>
                  <a:pt x="3497" y="5879"/>
                </a:cubicBezTo>
                <a:cubicBezTo>
                  <a:pt x="3479" y="5990"/>
                  <a:pt x="3456" y="6111"/>
                  <a:pt x="3473" y="6226"/>
                </a:cubicBezTo>
                <a:cubicBezTo>
                  <a:pt x="3484" y="6300"/>
                  <a:pt x="3503" y="6381"/>
                  <a:pt x="3522" y="6449"/>
                </a:cubicBezTo>
                <a:cubicBezTo>
                  <a:pt x="3539" y="6508"/>
                  <a:pt x="3553" y="6543"/>
                  <a:pt x="3572" y="6598"/>
                </a:cubicBezTo>
              </a:path>
              <a:path w="12503" h="6723">
                <a:moveTo>
                  <a:pt x="4589" y="3225"/>
                </a:moveTo>
                <a:cubicBezTo>
                  <a:pt x="4581" y="3217"/>
                  <a:pt x="4572" y="3208"/>
                  <a:pt x="4564" y="3200"/>
                </a:cubicBezTo>
              </a:path>
              <a:path w="12503" h="6723">
                <a:moveTo>
                  <a:pt x="9376" y="9897"/>
                </a:moveTo>
                <a:cubicBezTo>
                  <a:pt x="9551" y="9924"/>
                  <a:pt x="9717" y="9855"/>
                  <a:pt x="9897" y="9823"/>
                </a:cubicBezTo>
                <a:cubicBezTo>
                  <a:pt x="10262" y="9759"/>
                  <a:pt x="10625" y="9778"/>
                  <a:pt x="10988" y="9723"/>
                </a:cubicBezTo>
                <a:cubicBezTo>
                  <a:pt x="11054" y="9702"/>
                  <a:pt x="11069" y="9694"/>
                  <a:pt x="11112" y="9699"/>
                </a:cubicBezTo>
              </a:path>
              <a:path w="12503" h="6723">
                <a:moveTo>
                  <a:pt x="7541" y="8558"/>
                </a:moveTo>
                <a:cubicBezTo>
                  <a:pt x="7531" y="8800"/>
                  <a:pt x="7504" y="9042"/>
                  <a:pt x="7441" y="9277"/>
                </a:cubicBezTo>
                <a:cubicBezTo>
                  <a:pt x="7425" y="9336"/>
                  <a:pt x="7402" y="9389"/>
                  <a:pt x="7392" y="9451"/>
                </a:cubicBezTo>
              </a:path>
              <a:path w="12503" h="6723">
                <a:moveTo>
                  <a:pt x="7243" y="9227"/>
                </a:moveTo>
                <a:cubicBezTo>
                  <a:pt x="7247" y="9273"/>
                  <a:pt x="7244" y="9493"/>
                  <a:pt x="7342" y="9475"/>
                </a:cubicBezTo>
                <a:cubicBezTo>
                  <a:pt x="7428" y="9459"/>
                  <a:pt x="7531" y="9384"/>
                  <a:pt x="7615" y="9351"/>
                </a:cubicBezTo>
              </a:path>
              <a:path w="12503" h="6723">
                <a:moveTo>
                  <a:pt x="11137" y="9451"/>
                </a:moveTo>
                <a:cubicBezTo>
                  <a:pt x="11314" y="9451"/>
                  <a:pt x="11482" y="9429"/>
                  <a:pt x="11658" y="9426"/>
                </a:cubicBezTo>
                <a:cubicBezTo>
                  <a:pt x="11916" y="9422"/>
                  <a:pt x="12170" y="9411"/>
                  <a:pt x="12427" y="9401"/>
                </a:cubicBezTo>
                <a:cubicBezTo>
                  <a:pt x="12656" y="9392"/>
                  <a:pt x="12895" y="9399"/>
                  <a:pt x="13122" y="9376"/>
                </a:cubicBezTo>
                <a:cubicBezTo>
                  <a:pt x="13286" y="9359"/>
                  <a:pt x="13454" y="9348"/>
                  <a:pt x="13618" y="9327"/>
                </a:cubicBezTo>
                <a:cubicBezTo>
                  <a:pt x="13787" y="9305"/>
                  <a:pt x="13927" y="9277"/>
                  <a:pt x="14089" y="9227"/>
                </a:cubicBezTo>
                <a:cubicBezTo>
                  <a:pt x="14172" y="9201"/>
                  <a:pt x="14271" y="9156"/>
                  <a:pt x="14337" y="9103"/>
                </a:cubicBezTo>
                <a:cubicBezTo>
                  <a:pt x="14430" y="9028"/>
                  <a:pt x="14469" y="8947"/>
                  <a:pt x="14511" y="8830"/>
                </a:cubicBezTo>
                <a:cubicBezTo>
                  <a:pt x="14555" y="8708"/>
                  <a:pt x="14535" y="8615"/>
                  <a:pt x="14461" y="8508"/>
                </a:cubicBezTo>
                <a:cubicBezTo>
                  <a:pt x="14386" y="8399"/>
                  <a:pt x="14288" y="8374"/>
                  <a:pt x="14163" y="8334"/>
                </a:cubicBezTo>
                <a:cubicBezTo>
                  <a:pt x="14005" y="8284"/>
                  <a:pt x="13809" y="8288"/>
                  <a:pt x="13643" y="8285"/>
                </a:cubicBezTo>
                <a:cubicBezTo>
                  <a:pt x="13448" y="8281"/>
                  <a:pt x="13309" y="8312"/>
                  <a:pt x="13122" y="8359"/>
                </a:cubicBezTo>
                <a:cubicBezTo>
                  <a:pt x="12882" y="8419"/>
                  <a:pt x="12641" y="8475"/>
                  <a:pt x="12402" y="8533"/>
                </a:cubicBezTo>
                <a:cubicBezTo>
                  <a:pt x="12219" y="8577"/>
                  <a:pt x="12037" y="8610"/>
                  <a:pt x="11857" y="8657"/>
                </a:cubicBezTo>
                <a:cubicBezTo>
                  <a:pt x="11739" y="8688"/>
                  <a:pt x="11598" y="8691"/>
                  <a:pt x="11485" y="8731"/>
                </a:cubicBezTo>
                <a:cubicBezTo>
                  <a:pt x="11424" y="8752"/>
                  <a:pt x="11360" y="8790"/>
                  <a:pt x="11311" y="8830"/>
                </a:cubicBezTo>
                <a:cubicBezTo>
                  <a:pt x="11215" y="8909"/>
                  <a:pt x="11133" y="9075"/>
                  <a:pt x="11137" y="9203"/>
                </a:cubicBezTo>
                <a:cubicBezTo>
                  <a:pt x="11141" y="9362"/>
                  <a:pt x="11297" y="9408"/>
                  <a:pt x="11410" y="9475"/>
                </a:cubicBezTo>
                <a:cubicBezTo>
                  <a:pt x="11551" y="9559"/>
                  <a:pt x="11701" y="9513"/>
                  <a:pt x="11857" y="9475"/>
                </a:cubicBezTo>
                <a:cubicBezTo>
                  <a:pt x="11996" y="9436"/>
                  <a:pt x="12019" y="9419"/>
                  <a:pt x="12105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9080" y="2938320"/>
            <a:ext cx="635040" cy="554040"/>
          </a:xfrm>
          <a:custGeom>
            <a:avLst/>
            <a:gdLst/>
            <a:ahLst/>
            <a:rect l="l" t="t" r="r" b="b"/>
            <a:pathLst>
              <a:path w="1762" h="1539">
                <a:moveTo>
                  <a:pt x="9302" y="8880"/>
                </a:moveTo>
                <a:cubicBezTo>
                  <a:pt x="9340" y="8791"/>
                  <a:pt x="9424" y="8771"/>
                  <a:pt x="9525" y="8781"/>
                </a:cubicBezTo>
                <a:cubicBezTo>
                  <a:pt x="9556" y="8933"/>
                  <a:pt x="9493" y="9008"/>
                  <a:pt x="9351" y="9079"/>
                </a:cubicBezTo>
                <a:cubicBezTo>
                  <a:pt x="9343" y="9079"/>
                  <a:pt x="9335" y="9079"/>
                  <a:pt x="9327" y="9079"/>
                </a:cubicBezTo>
                <a:cubicBezTo>
                  <a:pt x="9446" y="9043"/>
                  <a:pt x="9613" y="9067"/>
                  <a:pt x="9649" y="9227"/>
                </a:cubicBezTo>
                <a:cubicBezTo>
                  <a:pt x="9697" y="9438"/>
                  <a:pt x="9314" y="9458"/>
                  <a:pt x="9203" y="9451"/>
                </a:cubicBezTo>
                <a:cubicBezTo>
                  <a:pt x="9119" y="9430"/>
                  <a:pt x="9099" y="9429"/>
                  <a:pt x="9054" y="9401"/>
                </a:cubicBezTo>
              </a:path>
              <a:path w="1762" h="1539">
                <a:moveTo>
                  <a:pt x="9798" y="8582"/>
                </a:moveTo>
                <a:cubicBezTo>
                  <a:pt x="9820" y="8504"/>
                  <a:pt x="9897" y="8445"/>
                  <a:pt x="9996" y="8508"/>
                </a:cubicBezTo>
                <a:cubicBezTo>
                  <a:pt x="10004" y="8525"/>
                  <a:pt x="10013" y="8541"/>
                  <a:pt x="10021" y="8558"/>
                </a:cubicBezTo>
                <a:cubicBezTo>
                  <a:pt x="9983" y="8633"/>
                  <a:pt x="9936" y="8664"/>
                  <a:pt x="9897" y="8731"/>
                </a:cubicBezTo>
                <a:cubicBezTo>
                  <a:pt x="9859" y="8795"/>
                  <a:pt x="9810" y="8841"/>
                  <a:pt x="9773" y="8905"/>
                </a:cubicBezTo>
                <a:cubicBezTo>
                  <a:pt x="9844" y="8811"/>
                  <a:pt x="9849" y="8802"/>
                  <a:pt x="9947" y="8855"/>
                </a:cubicBezTo>
                <a:cubicBezTo>
                  <a:pt x="10040" y="8904"/>
                  <a:pt x="10052" y="8902"/>
                  <a:pt x="10145" y="8855"/>
                </a:cubicBezTo>
              </a:path>
              <a:path w="1762" h="1539">
                <a:moveTo>
                  <a:pt x="10443" y="9054"/>
                </a:moveTo>
                <a:cubicBezTo>
                  <a:pt x="10551" y="9016"/>
                  <a:pt x="10655" y="8986"/>
                  <a:pt x="10765" y="8954"/>
                </a:cubicBezTo>
              </a:path>
              <a:path w="1762" h="1539">
                <a:moveTo>
                  <a:pt x="10443" y="9178"/>
                </a:moveTo>
                <a:cubicBezTo>
                  <a:pt x="10571" y="9178"/>
                  <a:pt x="10689" y="9164"/>
                  <a:pt x="10815" y="9153"/>
                </a:cubicBezTo>
              </a:path>
              <a:path w="1762" h="1539">
                <a:moveTo>
                  <a:pt x="9376" y="8161"/>
                </a:moveTo>
                <a:lnTo>
                  <a:pt x="9376" y="8161"/>
                </a:lnTo>
              </a:path>
              <a:path w="1762" h="1539">
                <a:moveTo>
                  <a:pt x="9252" y="9699"/>
                </a:moveTo>
                <a:cubicBezTo>
                  <a:pt x="9065" y="9672"/>
                  <a:pt x="9361" y="9616"/>
                  <a:pt x="9401" y="9599"/>
                </a:cubicBezTo>
                <a:cubicBezTo>
                  <a:pt x="9713" y="9465"/>
                  <a:pt x="9643" y="9475"/>
                  <a:pt x="9376" y="9550"/>
                </a:cubicBezTo>
                <a:cubicBezTo>
                  <a:pt x="9309" y="9573"/>
                  <a:pt x="9291" y="9578"/>
                  <a:pt x="9252" y="9599"/>
                </a:cubicBezTo>
                <a:cubicBezTo>
                  <a:pt x="9377" y="9590"/>
                  <a:pt x="9714" y="9462"/>
                  <a:pt x="9624" y="9550"/>
                </a:cubicBezTo>
                <a:cubicBezTo>
                  <a:pt x="9550" y="9622"/>
                  <a:pt x="9397" y="9626"/>
                  <a:pt x="9302" y="9649"/>
                </a:cubicBezTo>
              </a:path>
              <a:path w="1762" h="1539">
                <a:moveTo>
                  <a:pt x="9773" y="9103"/>
                </a:moveTo>
                <a:cubicBezTo>
                  <a:pt x="9878" y="9093"/>
                  <a:pt x="9973" y="9068"/>
                  <a:pt x="10071" y="9029"/>
                </a:cubicBezTo>
                <a:cubicBezTo>
                  <a:pt x="10035" y="9032"/>
                  <a:pt x="9786" y="9054"/>
                  <a:pt x="9922" y="9054"/>
                </a:cubicBezTo>
                <a:cubicBezTo>
                  <a:pt x="10022" y="9054"/>
                  <a:pt x="10110" y="9026"/>
                  <a:pt x="1002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60880" y="3081240"/>
            <a:ext cx="1000080" cy="285840"/>
          </a:xfrm>
          <a:custGeom>
            <a:avLst/>
            <a:gdLst/>
            <a:ahLst/>
            <a:rect l="l" t="t" r="r" b="b"/>
            <a:pathLst>
              <a:path w="2779" h="794">
                <a:moveTo>
                  <a:pt x="11559" y="8806"/>
                </a:moveTo>
                <a:cubicBezTo>
                  <a:pt x="11600" y="8758"/>
                  <a:pt x="11776" y="8588"/>
                  <a:pt x="11782" y="8756"/>
                </a:cubicBezTo>
                <a:cubicBezTo>
                  <a:pt x="11754" y="8867"/>
                  <a:pt x="11737" y="8909"/>
                  <a:pt x="11658" y="8954"/>
                </a:cubicBezTo>
                <a:cubicBezTo>
                  <a:pt x="11650" y="8971"/>
                  <a:pt x="11641" y="8987"/>
                  <a:pt x="11633" y="9004"/>
                </a:cubicBezTo>
                <a:cubicBezTo>
                  <a:pt x="11826" y="8977"/>
                  <a:pt x="11806" y="8933"/>
                  <a:pt x="11906" y="9103"/>
                </a:cubicBezTo>
                <a:cubicBezTo>
                  <a:pt x="11776" y="9215"/>
                  <a:pt x="11670" y="9332"/>
                  <a:pt x="11584" y="9178"/>
                </a:cubicBezTo>
              </a:path>
              <a:path w="2779" h="794">
                <a:moveTo>
                  <a:pt x="12278" y="8781"/>
                </a:moveTo>
                <a:cubicBezTo>
                  <a:pt x="12348" y="8743"/>
                  <a:pt x="12544" y="8615"/>
                  <a:pt x="12551" y="8781"/>
                </a:cubicBezTo>
                <a:cubicBezTo>
                  <a:pt x="12523" y="8864"/>
                  <a:pt x="12508" y="8895"/>
                  <a:pt x="12452" y="8930"/>
                </a:cubicBezTo>
                <a:cubicBezTo>
                  <a:pt x="12444" y="8930"/>
                  <a:pt x="12435" y="8930"/>
                  <a:pt x="12427" y="8930"/>
                </a:cubicBezTo>
                <a:cubicBezTo>
                  <a:pt x="12604" y="8930"/>
                  <a:pt x="12832" y="9007"/>
                  <a:pt x="12626" y="9227"/>
                </a:cubicBezTo>
                <a:cubicBezTo>
                  <a:pt x="12542" y="9317"/>
                  <a:pt x="12465" y="9262"/>
                  <a:pt x="12378" y="9227"/>
                </a:cubicBezTo>
              </a:path>
              <a:path w="2779" h="794">
                <a:moveTo>
                  <a:pt x="12055" y="8930"/>
                </a:moveTo>
                <a:cubicBezTo>
                  <a:pt x="12095" y="8999"/>
                  <a:pt x="12125" y="9028"/>
                  <a:pt x="12204" y="9054"/>
                </a:cubicBezTo>
              </a:path>
              <a:path w="2779" h="794">
                <a:moveTo>
                  <a:pt x="12229" y="8930"/>
                </a:moveTo>
                <a:cubicBezTo>
                  <a:pt x="12125" y="8969"/>
                  <a:pt x="12117" y="9043"/>
                  <a:pt x="12080" y="9153"/>
                </a:cubicBezTo>
              </a:path>
              <a:path w="2779" h="794">
                <a:moveTo>
                  <a:pt x="12948" y="8905"/>
                </a:moveTo>
                <a:cubicBezTo>
                  <a:pt x="13053" y="8905"/>
                  <a:pt x="13145" y="8891"/>
                  <a:pt x="13246" y="8880"/>
                </a:cubicBezTo>
              </a:path>
              <a:path w="2779" h="794">
                <a:moveTo>
                  <a:pt x="13122" y="9079"/>
                </a:moveTo>
                <a:cubicBezTo>
                  <a:pt x="13191" y="9056"/>
                  <a:pt x="13271" y="9034"/>
                  <a:pt x="13345" y="9029"/>
                </a:cubicBezTo>
                <a:cubicBezTo>
                  <a:pt x="13362" y="9029"/>
                  <a:pt x="13378" y="9029"/>
                  <a:pt x="13395" y="9029"/>
                </a:cubicBezTo>
              </a:path>
              <a:path w="2779" h="794">
                <a:moveTo>
                  <a:pt x="14337" y="8756"/>
                </a:moveTo>
                <a:cubicBezTo>
                  <a:pt x="14284" y="8630"/>
                  <a:pt x="14249" y="8554"/>
                  <a:pt x="14089" y="8558"/>
                </a:cubicBezTo>
                <a:cubicBezTo>
                  <a:pt x="13919" y="8562"/>
                  <a:pt x="13781" y="8600"/>
                  <a:pt x="13791" y="8781"/>
                </a:cubicBezTo>
                <a:cubicBezTo>
                  <a:pt x="13799" y="8814"/>
                  <a:pt x="13808" y="8847"/>
                  <a:pt x="13816" y="8880"/>
                </a:cubicBezTo>
                <a:cubicBezTo>
                  <a:pt x="13982" y="8906"/>
                  <a:pt x="14060" y="8865"/>
                  <a:pt x="14139" y="8706"/>
                </a:cubicBezTo>
                <a:cubicBezTo>
                  <a:pt x="14147" y="8681"/>
                  <a:pt x="14155" y="8657"/>
                  <a:pt x="14163" y="8632"/>
                </a:cubicBezTo>
                <a:cubicBezTo>
                  <a:pt x="14218" y="8822"/>
                  <a:pt x="14259" y="9054"/>
                  <a:pt x="14288" y="9252"/>
                </a:cubicBezTo>
                <a:cubicBezTo>
                  <a:pt x="14288" y="9285"/>
                  <a:pt x="14288" y="9318"/>
                  <a:pt x="14288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31040" y="2394000"/>
            <a:ext cx="911160" cy="642960"/>
          </a:xfrm>
          <a:custGeom>
            <a:avLst/>
            <a:gdLst/>
            <a:ahLst/>
            <a:rect l="l" t="t" r="r" b="b"/>
            <a:pathLst>
              <a:path w="2531" h="1787">
                <a:moveTo>
                  <a:pt x="20365" y="8434"/>
                </a:moveTo>
                <a:cubicBezTo>
                  <a:pt x="20490" y="8371"/>
                  <a:pt x="20567" y="8264"/>
                  <a:pt x="20687" y="8186"/>
                </a:cubicBezTo>
                <a:cubicBezTo>
                  <a:pt x="20787" y="8121"/>
                  <a:pt x="20843" y="8261"/>
                  <a:pt x="20886" y="8334"/>
                </a:cubicBezTo>
                <a:cubicBezTo>
                  <a:pt x="20894" y="8351"/>
                  <a:pt x="20902" y="8367"/>
                  <a:pt x="20910" y="8384"/>
                </a:cubicBezTo>
              </a:path>
              <a:path w="2531" h="1787">
                <a:moveTo>
                  <a:pt x="20563" y="7739"/>
                </a:moveTo>
                <a:cubicBezTo>
                  <a:pt x="20478" y="7707"/>
                  <a:pt x="20494" y="7698"/>
                  <a:pt x="20439" y="7764"/>
                </a:cubicBezTo>
                <a:cubicBezTo>
                  <a:pt x="20485" y="7841"/>
                  <a:pt x="20518" y="7784"/>
                  <a:pt x="20588" y="7714"/>
                </a:cubicBezTo>
                <a:cubicBezTo>
                  <a:pt x="20663" y="7819"/>
                  <a:pt x="20681" y="7882"/>
                  <a:pt x="20712" y="8012"/>
                </a:cubicBezTo>
              </a:path>
              <a:path w="2531" h="1787">
                <a:moveTo>
                  <a:pt x="20861" y="7913"/>
                </a:moveTo>
                <a:cubicBezTo>
                  <a:pt x="20990" y="7844"/>
                  <a:pt x="21114" y="7767"/>
                  <a:pt x="21258" y="7739"/>
                </a:cubicBezTo>
                <a:cubicBezTo>
                  <a:pt x="21379" y="7716"/>
                  <a:pt x="21447" y="7886"/>
                  <a:pt x="21506" y="7962"/>
                </a:cubicBezTo>
                <a:cubicBezTo>
                  <a:pt x="21580" y="8057"/>
                  <a:pt x="21633" y="8122"/>
                  <a:pt x="21729" y="8186"/>
                </a:cubicBezTo>
              </a:path>
              <a:path w="2531" h="1787">
                <a:moveTo>
                  <a:pt x="21357" y="7367"/>
                </a:moveTo>
                <a:cubicBezTo>
                  <a:pt x="21431" y="7357"/>
                  <a:pt x="21694" y="7366"/>
                  <a:pt x="21580" y="7541"/>
                </a:cubicBezTo>
                <a:cubicBezTo>
                  <a:pt x="21539" y="7604"/>
                  <a:pt x="21375" y="7511"/>
                  <a:pt x="21630" y="7491"/>
                </a:cubicBezTo>
              </a:path>
              <a:path w="2531" h="1787">
                <a:moveTo>
                  <a:pt x="21729" y="7268"/>
                </a:moveTo>
                <a:cubicBezTo>
                  <a:pt x="21800" y="7260"/>
                  <a:pt x="21858" y="7241"/>
                  <a:pt x="21927" y="7218"/>
                </a:cubicBezTo>
                <a:cubicBezTo>
                  <a:pt x="21950" y="7332"/>
                  <a:pt x="21977" y="7418"/>
                  <a:pt x="21977" y="7541"/>
                </a:cubicBezTo>
              </a:path>
              <a:path w="2531" h="1787">
                <a:moveTo>
                  <a:pt x="22151" y="7417"/>
                </a:moveTo>
                <a:cubicBezTo>
                  <a:pt x="22176" y="7415"/>
                  <a:pt x="22385" y="7355"/>
                  <a:pt x="22399" y="7367"/>
                </a:cubicBezTo>
                <a:cubicBezTo>
                  <a:pt x="22510" y="7458"/>
                  <a:pt x="22537" y="7802"/>
                  <a:pt x="22597" y="7938"/>
                </a:cubicBezTo>
                <a:cubicBezTo>
                  <a:pt x="22636" y="8014"/>
                  <a:pt x="22635" y="8029"/>
                  <a:pt x="22671" y="8062"/>
                </a:cubicBezTo>
              </a:path>
              <a:path w="2531" h="1787">
                <a:moveTo>
                  <a:pt x="22572" y="6796"/>
                </a:moveTo>
                <a:cubicBezTo>
                  <a:pt x="22572" y="6726"/>
                  <a:pt x="22579" y="6701"/>
                  <a:pt x="22547" y="6648"/>
                </a:cubicBezTo>
                <a:cubicBezTo>
                  <a:pt x="22492" y="6673"/>
                  <a:pt x="22271" y="6914"/>
                  <a:pt x="22498" y="6871"/>
                </a:cubicBezTo>
                <a:cubicBezTo>
                  <a:pt x="22523" y="6821"/>
                  <a:pt x="22531" y="6805"/>
                  <a:pt x="22547" y="6772"/>
                </a:cubicBezTo>
                <a:cubicBezTo>
                  <a:pt x="22584" y="6894"/>
                  <a:pt x="22626" y="7004"/>
                  <a:pt x="22597" y="7119"/>
                </a:cubicBezTo>
              </a:path>
              <a:path w="2531" h="1787">
                <a:moveTo>
                  <a:pt x="22895" y="6722"/>
                </a:moveTo>
                <a:cubicBezTo>
                  <a:pt x="22895" y="6830"/>
                  <a:pt x="22895" y="6937"/>
                  <a:pt x="22895" y="7045"/>
                </a:cubicBezTo>
              </a:path>
              <a:path w="2531" h="1787">
                <a:moveTo>
                  <a:pt x="22399" y="6945"/>
                </a:moveTo>
                <a:cubicBezTo>
                  <a:pt x="22352" y="7054"/>
                  <a:pt x="22298" y="7125"/>
                  <a:pt x="22423" y="7193"/>
                </a:cubicBezTo>
                <a:cubicBezTo>
                  <a:pt x="22482" y="7225"/>
                  <a:pt x="22628" y="7208"/>
                  <a:pt x="22671" y="7144"/>
                </a:cubicBezTo>
                <a:cubicBezTo>
                  <a:pt x="22710" y="7087"/>
                  <a:pt x="22705" y="7012"/>
                  <a:pt x="22647" y="6970"/>
                </a:cubicBezTo>
                <a:cubicBezTo>
                  <a:pt x="22611" y="6944"/>
                  <a:pt x="22565" y="6929"/>
                  <a:pt x="22523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7800" y="3009960"/>
            <a:ext cx="25848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18678" y="8806"/>
                </a:moveTo>
                <a:cubicBezTo>
                  <a:pt x="18768" y="8746"/>
                  <a:pt x="18824" y="8715"/>
                  <a:pt x="18926" y="8682"/>
                </a:cubicBezTo>
                <a:cubicBezTo>
                  <a:pt x="18926" y="8890"/>
                  <a:pt x="18931" y="8884"/>
                  <a:pt x="18777" y="9029"/>
                </a:cubicBezTo>
                <a:cubicBezTo>
                  <a:pt x="18937" y="8942"/>
                  <a:pt x="19062" y="8939"/>
                  <a:pt x="18951" y="9178"/>
                </a:cubicBezTo>
                <a:cubicBezTo>
                  <a:pt x="18876" y="9340"/>
                  <a:pt x="18717" y="9392"/>
                  <a:pt x="18604" y="9277"/>
                </a:cubicBezTo>
              </a:path>
              <a:path w="720" h="993">
                <a:moveTo>
                  <a:pt x="19174" y="8533"/>
                </a:moveTo>
                <a:cubicBezTo>
                  <a:pt x="19125" y="8679"/>
                  <a:pt x="19219" y="8584"/>
                  <a:pt x="19298" y="8558"/>
                </a:cubicBezTo>
              </a:path>
              <a:path w="720" h="993">
                <a:moveTo>
                  <a:pt x="19323" y="8359"/>
                </a:moveTo>
                <a:cubicBezTo>
                  <a:pt x="19304" y="8486"/>
                  <a:pt x="19298" y="8603"/>
                  <a:pt x="19298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62840" y="3160800"/>
            <a:ext cx="63360" cy="6336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9621" y="8855"/>
                </a:moveTo>
                <a:cubicBezTo>
                  <a:pt x="19692" y="8808"/>
                  <a:pt x="19713" y="8793"/>
                  <a:pt x="19769" y="8781"/>
                </a:cubicBezTo>
              </a:path>
              <a:path w="174" h="174">
                <a:moveTo>
                  <a:pt x="19621" y="8954"/>
                </a:moveTo>
                <a:cubicBezTo>
                  <a:pt x="19713" y="8954"/>
                  <a:pt x="19739" y="8956"/>
                  <a:pt x="19794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24840" y="3017880"/>
            <a:ext cx="1054080" cy="277920"/>
          </a:xfrm>
          <a:custGeom>
            <a:avLst/>
            <a:gdLst/>
            <a:ahLst/>
            <a:rect l="l" t="t" r="r" b="b"/>
            <a:pathLst>
              <a:path w="2928" h="770">
                <a:moveTo>
                  <a:pt x="20067" y="8682"/>
                </a:moveTo>
                <a:cubicBezTo>
                  <a:pt x="20142" y="8613"/>
                  <a:pt x="20326" y="8431"/>
                  <a:pt x="20340" y="8657"/>
                </a:cubicBezTo>
                <a:cubicBezTo>
                  <a:pt x="20347" y="8765"/>
                  <a:pt x="20257" y="8814"/>
                  <a:pt x="20191" y="8880"/>
                </a:cubicBezTo>
                <a:cubicBezTo>
                  <a:pt x="20284" y="8849"/>
                  <a:pt x="20392" y="8899"/>
                  <a:pt x="20365" y="9029"/>
                </a:cubicBezTo>
                <a:cubicBezTo>
                  <a:pt x="20335" y="9175"/>
                  <a:pt x="20230" y="9146"/>
                  <a:pt x="20117" y="9153"/>
                </a:cubicBezTo>
              </a:path>
              <a:path w="2928" h="770">
                <a:moveTo>
                  <a:pt x="20588" y="8657"/>
                </a:moveTo>
                <a:cubicBezTo>
                  <a:pt x="20648" y="8756"/>
                  <a:pt x="20710" y="8851"/>
                  <a:pt x="20762" y="8954"/>
                </a:cubicBezTo>
              </a:path>
              <a:path w="2928" h="770">
                <a:moveTo>
                  <a:pt x="20737" y="8607"/>
                </a:moveTo>
                <a:cubicBezTo>
                  <a:pt x="20712" y="8721"/>
                  <a:pt x="20678" y="8843"/>
                  <a:pt x="20638" y="8954"/>
                </a:cubicBezTo>
              </a:path>
              <a:path w="2928" h="770">
                <a:moveTo>
                  <a:pt x="21084" y="8632"/>
                </a:moveTo>
                <a:cubicBezTo>
                  <a:pt x="21067" y="8632"/>
                  <a:pt x="21051" y="8632"/>
                  <a:pt x="21034" y="8632"/>
                </a:cubicBezTo>
                <a:cubicBezTo>
                  <a:pt x="21107" y="8535"/>
                  <a:pt x="21225" y="8401"/>
                  <a:pt x="21158" y="8657"/>
                </a:cubicBezTo>
                <a:cubicBezTo>
                  <a:pt x="21121" y="8751"/>
                  <a:pt x="21128" y="8769"/>
                  <a:pt x="21084" y="8806"/>
                </a:cubicBezTo>
                <a:cubicBezTo>
                  <a:pt x="21179" y="8816"/>
                  <a:pt x="21219" y="8933"/>
                  <a:pt x="21134" y="9029"/>
                </a:cubicBezTo>
                <a:cubicBezTo>
                  <a:pt x="21044" y="9074"/>
                  <a:pt x="21022" y="9087"/>
                  <a:pt x="20960" y="9103"/>
                </a:cubicBezTo>
              </a:path>
              <a:path w="2928" h="770">
                <a:moveTo>
                  <a:pt x="21382" y="8706"/>
                </a:moveTo>
                <a:cubicBezTo>
                  <a:pt x="21474" y="8762"/>
                  <a:pt x="21481" y="8804"/>
                  <a:pt x="21530" y="8905"/>
                </a:cubicBezTo>
              </a:path>
              <a:path w="2928" h="770">
                <a:moveTo>
                  <a:pt x="21530" y="8632"/>
                </a:moveTo>
                <a:cubicBezTo>
                  <a:pt x="21496" y="8723"/>
                  <a:pt x="21457" y="8797"/>
                  <a:pt x="21406" y="8880"/>
                </a:cubicBezTo>
              </a:path>
              <a:path w="2928" h="770">
                <a:moveTo>
                  <a:pt x="21729" y="8582"/>
                </a:moveTo>
                <a:cubicBezTo>
                  <a:pt x="21746" y="8548"/>
                  <a:pt x="21876" y="8465"/>
                  <a:pt x="21927" y="8483"/>
                </a:cubicBezTo>
                <a:cubicBezTo>
                  <a:pt x="22036" y="8522"/>
                  <a:pt x="21888" y="8735"/>
                  <a:pt x="21878" y="8756"/>
                </a:cubicBezTo>
                <a:cubicBezTo>
                  <a:pt x="21870" y="8764"/>
                  <a:pt x="21861" y="8773"/>
                  <a:pt x="21853" y="8781"/>
                </a:cubicBezTo>
                <a:cubicBezTo>
                  <a:pt x="21975" y="8750"/>
                  <a:pt x="22016" y="8862"/>
                  <a:pt x="21952" y="8979"/>
                </a:cubicBezTo>
                <a:cubicBezTo>
                  <a:pt x="21894" y="9085"/>
                  <a:pt x="21819" y="9072"/>
                  <a:pt x="21729" y="9054"/>
                </a:cubicBezTo>
              </a:path>
              <a:path w="2928" h="770">
                <a:moveTo>
                  <a:pt x="22151" y="8533"/>
                </a:moveTo>
                <a:cubicBezTo>
                  <a:pt x="22232" y="8626"/>
                  <a:pt x="22297" y="8694"/>
                  <a:pt x="22324" y="8806"/>
                </a:cubicBezTo>
              </a:path>
              <a:path w="2928" h="770">
                <a:moveTo>
                  <a:pt x="22324" y="8533"/>
                </a:moveTo>
                <a:cubicBezTo>
                  <a:pt x="22279" y="8624"/>
                  <a:pt x="22236" y="8712"/>
                  <a:pt x="22200" y="8806"/>
                </a:cubicBezTo>
              </a:path>
              <a:path w="2928" h="770">
                <a:moveTo>
                  <a:pt x="22547" y="8508"/>
                </a:moveTo>
                <a:cubicBezTo>
                  <a:pt x="22677" y="8433"/>
                  <a:pt x="22709" y="8398"/>
                  <a:pt x="22845" y="8409"/>
                </a:cubicBezTo>
                <a:cubicBezTo>
                  <a:pt x="22878" y="8570"/>
                  <a:pt x="22811" y="8623"/>
                  <a:pt x="22696" y="8731"/>
                </a:cubicBezTo>
                <a:cubicBezTo>
                  <a:pt x="22688" y="8739"/>
                  <a:pt x="22679" y="8748"/>
                  <a:pt x="22671" y="8756"/>
                </a:cubicBezTo>
                <a:cubicBezTo>
                  <a:pt x="22783" y="8680"/>
                  <a:pt x="23000" y="8618"/>
                  <a:pt x="22994" y="8880"/>
                </a:cubicBezTo>
                <a:cubicBezTo>
                  <a:pt x="22989" y="9092"/>
                  <a:pt x="22796" y="9119"/>
                  <a:pt x="22647" y="9103"/>
                </a:cubicBezTo>
                <a:cubicBezTo>
                  <a:pt x="22639" y="9103"/>
                  <a:pt x="22630" y="9103"/>
                  <a:pt x="22622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88080" y="2401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6672"/>
                </a:moveTo>
                <a:lnTo>
                  <a:pt x="18579" y="66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7960" y="6535800"/>
            <a:ext cx="509760" cy="31428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5730" y="19025"/>
                </a:moveTo>
                <a:cubicBezTo>
                  <a:pt x="5722" y="19025"/>
                  <a:pt x="5713" y="19025"/>
                  <a:pt x="5705" y="19025"/>
                </a:cubicBezTo>
              </a:path>
              <a:path w="1415" h="869">
                <a:moveTo>
                  <a:pt x="6077" y="19025"/>
                </a:moveTo>
                <a:lnTo>
                  <a:pt x="6077" y="19025"/>
                </a:lnTo>
              </a:path>
              <a:path w="1415" h="869">
                <a:moveTo>
                  <a:pt x="5432" y="19025"/>
                </a:moveTo>
                <a:lnTo>
                  <a:pt x="5432" y="19025"/>
                </a:lnTo>
              </a:path>
              <a:path w="1415" h="869">
                <a:moveTo>
                  <a:pt x="4663" y="18157"/>
                </a:moveTo>
                <a:lnTo>
                  <a:pt x="4663" y="181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33960" y="6126120"/>
            <a:ext cx="2600280" cy="88920"/>
          </a:xfrm>
          <a:custGeom>
            <a:avLst/>
            <a:gdLst/>
            <a:ahLst/>
            <a:rect l="l" t="t" r="r" b="b"/>
            <a:pathLst>
              <a:path w="7219" h="249">
                <a:moveTo>
                  <a:pt x="14263" y="17239"/>
                </a:moveTo>
                <a:cubicBezTo>
                  <a:pt x="14335" y="17236"/>
                  <a:pt x="14407" y="17251"/>
                  <a:pt x="14486" y="17239"/>
                </a:cubicBezTo>
                <a:cubicBezTo>
                  <a:pt x="14569" y="17226"/>
                  <a:pt x="14644" y="17216"/>
                  <a:pt x="14734" y="17214"/>
                </a:cubicBezTo>
                <a:cubicBezTo>
                  <a:pt x="14893" y="17211"/>
                  <a:pt x="15051" y="17198"/>
                  <a:pt x="15205" y="17190"/>
                </a:cubicBezTo>
                <a:cubicBezTo>
                  <a:pt x="15290" y="17186"/>
                  <a:pt x="15385" y="17210"/>
                  <a:pt x="15453" y="17214"/>
                </a:cubicBezTo>
                <a:cubicBezTo>
                  <a:pt x="15604" y="17223"/>
                  <a:pt x="15751" y="17230"/>
                  <a:pt x="15900" y="17239"/>
                </a:cubicBezTo>
                <a:cubicBezTo>
                  <a:pt x="16092" y="17250"/>
                  <a:pt x="16284" y="17224"/>
                  <a:pt x="16470" y="17214"/>
                </a:cubicBezTo>
                <a:cubicBezTo>
                  <a:pt x="16588" y="17208"/>
                  <a:pt x="16701" y="17196"/>
                  <a:pt x="16818" y="17190"/>
                </a:cubicBezTo>
                <a:cubicBezTo>
                  <a:pt x="16932" y="17184"/>
                  <a:pt x="17055" y="17161"/>
                  <a:pt x="17165" y="17165"/>
                </a:cubicBezTo>
                <a:cubicBezTo>
                  <a:pt x="17269" y="17169"/>
                  <a:pt x="17380" y="17207"/>
                  <a:pt x="17487" y="17214"/>
                </a:cubicBezTo>
                <a:cubicBezTo>
                  <a:pt x="17759" y="17233"/>
                  <a:pt x="18043" y="17204"/>
                  <a:pt x="18306" y="17190"/>
                </a:cubicBezTo>
                <a:cubicBezTo>
                  <a:pt x="18373" y="17187"/>
                  <a:pt x="18444" y="17169"/>
                  <a:pt x="18504" y="17165"/>
                </a:cubicBezTo>
                <a:cubicBezTo>
                  <a:pt x="18794" y="17145"/>
                  <a:pt x="19088" y="17175"/>
                  <a:pt x="19372" y="17190"/>
                </a:cubicBezTo>
                <a:cubicBezTo>
                  <a:pt x="19582" y="17201"/>
                  <a:pt x="19788" y="17175"/>
                  <a:pt x="19993" y="17165"/>
                </a:cubicBezTo>
                <a:cubicBezTo>
                  <a:pt x="20153" y="17157"/>
                  <a:pt x="20306" y="17158"/>
                  <a:pt x="20464" y="17140"/>
                </a:cubicBezTo>
                <a:cubicBezTo>
                  <a:pt x="20604" y="17124"/>
                  <a:pt x="20746" y="17108"/>
                  <a:pt x="20886" y="17090"/>
                </a:cubicBezTo>
                <a:cubicBezTo>
                  <a:pt x="21010" y="17074"/>
                  <a:pt x="21135" y="17059"/>
                  <a:pt x="21258" y="17041"/>
                </a:cubicBezTo>
                <a:cubicBezTo>
                  <a:pt x="21300" y="17035"/>
                  <a:pt x="21392" y="17015"/>
                  <a:pt x="21431" y="17016"/>
                </a:cubicBezTo>
                <a:cubicBezTo>
                  <a:pt x="21448" y="17024"/>
                  <a:pt x="21464" y="17033"/>
                  <a:pt x="2148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:  Students will find the area of a trapezoid.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if you are given the diameter you must find the radiu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radius = 4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) radius = 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) diameter = 10f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) diameter = 20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1240" y="2840040"/>
            <a:ext cx="196920" cy="312840"/>
          </a:xfrm>
          <a:custGeom>
            <a:avLst/>
            <a:gdLst/>
            <a:ahLst/>
            <a:rect l="l" t="t" r="r" b="b"/>
            <a:pathLst>
              <a:path w="546" h="869">
                <a:moveTo>
                  <a:pt x="2158" y="8384"/>
                </a:moveTo>
                <a:cubicBezTo>
                  <a:pt x="2190" y="8332"/>
                  <a:pt x="2200" y="8274"/>
                  <a:pt x="2208" y="8210"/>
                </a:cubicBezTo>
                <a:cubicBezTo>
                  <a:pt x="2166" y="8351"/>
                  <a:pt x="2127" y="8492"/>
                  <a:pt x="2084" y="8632"/>
                </a:cubicBezTo>
                <a:cubicBezTo>
                  <a:pt x="1959" y="8798"/>
                  <a:pt x="2304" y="8091"/>
                  <a:pt x="2307" y="8086"/>
                </a:cubicBezTo>
                <a:cubicBezTo>
                  <a:pt x="2386" y="7968"/>
                  <a:pt x="2394" y="7944"/>
                  <a:pt x="2456" y="7888"/>
                </a:cubicBezTo>
                <a:cubicBezTo>
                  <a:pt x="2613" y="8103"/>
                  <a:pt x="2592" y="8334"/>
                  <a:pt x="2555" y="8607"/>
                </a:cubicBezTo>
                <a:cubicBezTo>
                  <a:pt x="2537" y="8698"/>
                  <a:pt x="2528" y="8705"/>
                  <a:pt x="2530" y="8756"/>
                </a:cubicBezTo>
              </a:path>
              <a:path w="546" h="869">
                <a:moveTo>
                  <a:pt x="2084" y="8558"/>
                </a:moveTo>
                <a:cubicBezTo>
                  <a:pt x="2257" y="8504"/>
                  <a:pt x="2430" y="8457"/>
                  <a:pt x="2604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2840040"/>
            <a:ext cx="955800" cy="241200"/>
          </a:xfrm>
          <a:custGeom>
            <a:avLst/>
            <a:gdLst/>
            <a:ahLst/>
            <a:rect l="l" t="t" r="r" b="b"/>
            <a:pathLst>
              <a:path w="2655" h="671">
                <a:moveTo>
                  <a:pt x="3225" y="8310"/>
                </a:moveTo>
                <a:cubicBezTo>
                  <a:pt x="3364" y="8263"/>
                  <a:pt x="3403" y="8248"/>
                  <a:pt x="3497" y="8235"/>
                </a:cubicBezTo>
              </a:path>
              <a:path w="2655" h="671">
                <a:moveTo>
                  <a:pt x="3101" y="8483"/>
                </a:moveTo>
                <a:cubicBezTo>
                  <a:pt x="3252" y="8483"/>
                  <a:pt x="3319" y="8477"/>
                  <a:pt x="3423" y="8434"/>
                </a:cubicBezTo>
              </a:path>
              <a:path w="2655" h="671">
                <a:moveTo>
                  <a:pt x="4316" y="8136"/>
                </a:moveTo>
                <a:cubicBezTo>
                  <a:pt x="4293" y="8259"/>
                  <a:pt x="4283" y="8382"/>
                  <a:pt x="4266" y="8508"/>
                </a:cubicBezTo>
              </a:path>
              <a:path w="2655" h="671">
                <a:moveTo>
                  <a:pt x="4589" y="8161"/>
                </a:moveTo>
                <a:cubicBezTo>
                  <a:pt x="4584" y="8298"/>
                  <a:pt x="4575" y="8423"/>
                  <a:pt x="4564" y="8558"/>
                </a:cubicBezTo>
              </a:path>
              <a:path w="2655" h="671">
                <a:moveTo>
                  <a:pt x="3845" y="8310"/>
                </a:moveTo>
                <a:cubicBezTo>
                  <a:pt x="3931" y="8195"/>
                  <a:pt x="4007" y="7999"/>
                  <a:pt x="4167" y="7962"/>
                </a:cubicBezTo>
                <a:cubicBezTo>
                  <a:pt x="4364" y="7916"/>
                  <a:pt x="4463" y="8264"/>
                  <a:pt x="4688" y="8235"/>
                </a:cubicBezTo>
                <a:cubicBezTo>
                  <a:pt x="4884" y="8210"/>
                  <a:pt x="5037" y="8006"/>
                  <a:pt x="4887" y="7888"/>
                </a:cubicBezTo>
              </a:path>
              <a:path w="2655" h="671">
                <a:moveTo>
                  <a:pt x="5407" y="8210"/>
                </a:moveTo>
                <a:cubicBezTo>
                  <a:pt x="5407" y="8293"/>
                  <a:pt x="5407" y="8326"/>
                  <a:pt x="5407" y="8384"/>
                </a:cubicBezTo>
                <a:cubicBezTo>
                  <a:pt x="5407" y="8407"/>
                  <a:pt x="5430" y="8184"/>
                  <a:pt x="5482" y="8111"/>
                </a:cubicBezTo>
                <a:cubicBezTo>
                  <a:pt x="5558" y="8004"/>
                  <a:pt x="5643" y="7964"/>
                  <a:pt x="5755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1080" y="2732040"/>
            <a:ext cx="160200" cy="16992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6251" y="7665"/>
                </a:moveTo>
                <a:cubicBezTo>
                  <a:pt x="6410" y="7585"/>
                  <a:pt x="6563" y="7586"/>
                  <a:pt x="6524" y="7838"/>
                </a:cubicBezTo>
                <a:cubicBezTo>
                  <a:pt x="6500" y="7994"/>
                  <a:pt x="6349" y="8082"/>
                  <a:pt x="6300" y="7938"/>
                </a:cubicBezTo>
                <a:cubicBezTo>
                  <a:pt x="6437" y="7927"/>
                  <a:pt x="6490" y="7993"/>
                  <a:pt x="6623" y="8037"/>
                </a:cubicBezTo>
                <a:cubicBezTo>
                  <a:pt x="6658" y="8037"/>
                  <a:pt x="6675" y="8042"/>
                  <a:pt x="6697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960" y="3214800"/>
            <a:ext cx="195120" cy="25056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2232" y="9103"/>
                </a:moveTo>
                <a:cubicBezTo>
                  <a:pt x="2202" y="9315"/>
                  <a:pt x="2184" y="9442"/>
                  <a:pt x="2084" y="9624"/>
                </a:cubicBezTo>
                <a:cubicBezTo>
                  <a:pt x="2165" y="9354"/>
                  <a:pt x="2243" y="9018"/>
                  <a:pt x="2530" y="8930"/>
                </a:cubicBezTo>
                <a:cubicBezTo>
                  <a:pt x="2598" y="9135"/>
                  <a:pt x="2653" y="9354"/>
                  <a:pt x="2580" y="9575"/>
                </a:cubicBezTo>
                <a:cubicBezTo>
                  <a:pt x="2572" y="9583"/>
                  <a:pt x="2563" y="9591"/>
                  <a:pt x="2555" y="9599"/>
                </a:cubicBezTo>
              </a:path>
              <a:path w="546" h="695">
                <a:moveTo>
                  <a:pt x="2307" y="9401"/>
                </a:moveTo>
                <a:cubicBezTo>
                  <a:pt x="2420" y="9373"/>
                  <a:pt x="2510" y="9350"/>
                  <a:pt x="2629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2360" y="2973240"/>
            <a:ext cx="1589400" cy="465120"/>
          </a:xfrm>
          <a:custGeom>
            <a:avLst/>
            <a:gdLst/>
            <a:ahLst/>
            <a:rect l="l" t="t" r="r" b="b"/>
            <a:pathLst>
              <a:path w="4416" h="1291">
                <a:moveTo>
                  <a:pt x="3249" y="9252"/>
                </a:moveTo>
                <a:cubicBezTo>
                  <a:pt x="3354" y="9226"/>
                  <a:pt x="3440" y="9209"/>
                  <a:pt x="3547" y="9203"/>
                </a:cubicBezTo>
              </a:path>
              <a:path w="4416" h="1291">
                <a:moveTo>
                  <a:pt x="3200" y="9376"/>
                </a:moveTo>
                <a:cubicBezTo>
                  <a:pt x="3329" y="9390"/>
                  <a:pt x="3418" y="9380"/>
                  <a:pt x="3547" y="9351"/>
                </a:cubicBezTo>
              </a:path>
              <a:path w="4416" h="1291">
                <a:moveTo>
                  <a:pt x="4118" y="8930"/>
                </a:moveTo>
                <a:cubicBezTo>
                  <a:pt x="4199" y="8897"/>
                  <a:pt x="4235" y="8889"/>
                  <a:pt x="4316" y="8905"/>
                </a:cubicBezTo>
                <a:cubicBezTo>
                  <a:pt x="4299" y="9046"/>
                  <a:pt x="4279" y="9091"/>
                  <a:pt x="4192" y="9203"/>
                </a:cubicBezTo>
                <a:cubicBezTo>
                  <a:pt x="4355" y="9344"/>
                  <a:pt x="4245" y="9452"/>
                  <a:pt x="4043" y="9500"/>
                </a:cubicBezTo>
                <a:cubicBezTo>
                  <a:pt x="3906" y="9533"/>
                  <a:pt x="3841" y="9494"/>
                  <a:pt x="3795" y="9401"/>
                </a:cubicBezTo>
              </a:path>
              <a:path w="4416" h="1291">
                <a:moveTo>
                  <a:pt x="4986" y="9054"/>
                </a:moveTo>
                <a:cubicBezTo>
                  <a:pt x="4962" y="9204"/>
                  <a:pt x="4938" y="9334"/>
                  <a:pt x="4887" y="9475"/>
                </a:cubicBezTo>
              </a:path>
              <a:path w="4416" h="1291">
                <a:moveTo>
                  <a:pt x="5159" y="9004"/>
                </a:moveTo>
                <a:cubicBezTo>
                  <a:pt x="5138" y="9069"/>
                  <a:pt x="5122" y="9123"/>
                  <a:pt x="5085" y="9178"/>
                </a:cubicBezTo>
                <a:cubicBezTo>
                  <a:pt x="5243" y="9245"/>
                  <a:pt x="5344" y="9235"/>
                  <a:pt x="5507" y="9178"/>
                </a:cubicBezTo>
              </a:path>
              <a:path w="4416" h="1291">
                <a:moveTo>
                  <a:pt x="5556" y="8830"/>
                </a:moveTo>
                <a:cubicBezTo>
                  <a:pt x="5482" y="8996"/>
                  <a:pt x="5410" y="9162"/>
                  <a:pt x="5333" y="9327"/>
                </a:cubicBezTo>
              </a:path>
              <a:path w="4416" h="1291">
                <a:moveTo>
                  <a:pt x="4514" y="9376"/>
                </a:moveTo>
                <a:cubicBezTo>
                  <a:pt x="4460" y="9431"/>
                  <a:pt x="4448" y="9442"/>
                  <a:pt x="4514" y="9351"/>
                </a:cubicBezTo>
              </a:path>
              <a:path w="4416" h="1291">
                <a:moveTo>
                  <a:pt x="6127" y="8558"/>
                </a:moveTo>
                <a:cubicBezTo>
                  <a:pt x="5910" y="8869"/>
                  <a:pt x="5672" y="9114"/>
                  <a:pt x="5829" y="9500"/>
                </a:cubicBezTo>
                <a:cubicBezTo>
                  <a:pt x="5846" y="9517"/>
                  <a:pt x="5862" y="9533"/>
                  <a:pt x="5879" y="9550"/>
                </a:cubicBezTo>
              </a:path>
              <a:path w="4416" h="1291">
                <a:moveTo>
                  <a:pt x="5308" y="9277"/>
                </a:moveTo>
                <a:cubicBezTo>
                  <a:pt x="5278" y="9354"/>
                  <a:pt x="5246" y="9426"/>
                  <a:pt x="5209" y="9500"/>
                </a:cubicBezTo>
              </a:path>
              <a:path w="4416" h="1291">
                <a:moveTo>
                  <a:pt x="6400" y="8855"/>
                </a:moveTo>
                <a:cubicBezTo>
                  <a:pt x="6296" y="8959"/>
                  <a:pt x="6201" y="9050"/>
                  <a:pt x="6077" y="9128"/>
                </a:cubicBezTo>
                <a:cubicBezTo>
                  <a:pt x="6237" y="9128"/>
                  <a:pt x="6390" y="9141"/>
                  <a:pt x="6548" y="9153"/>
                </a:cubicBezTo>
              </a:path>
              <a:path w="4416" h="1291">
                <a:moveTo>
                  <a:pt x="6747" y="8731"/>
                </a:moveTo>
                <a:cubicBezTo>
                  <a:pt x="6700" y="8948"/>
                  <a:pt x="6618" y="9195"/>
                  <a:pt x="6524" y="9401"/>
                </a:cubicBezTo>
                <a:cubicBezTo>
                  <a:pt x="6507" y="9426"/>
                  <a:pt x="6491" y="9450"/>
                  <a:pt x="6474" y="9475"/>
                </a:cubicBezTo>
              </a:path>
              <a:path w="4416" h="1291">
                <a:moveTo>
                  <a:pt x="7119" y="8558"/>
                </a:moveTo>
                <a:cubicBezTo>
                  <a:pt x="7186" y="8535"/>
                  <a:pt x="7204" y="8524"/>
                  <a:pt x="7243" y="8558"/>
                </a:cubicBezTo>
                <a:cubicBezTo>
                  <a:pt x="7287" y="8701"/>
                  <a:pt x="7181" y="8721"/>
                  <a:pt x="7045" y="8806"/>
                </a:cubicBezTo>
                <a:cubicBezTo>
                  <a:pt x="7111" y="8822"/>
                  <a:pt x="7210" y="8811"/>
                  <a:pt x="7293" y="8806"/>
                </a:cubicBezTo>
              </a:path>
              <a:path w="4416" h="1291">
                <a:moveTo>
                  <a:pt x="7392" y="8260"/>
                </a:moveTo>
                <a:cubicBezTo>
                  <a:pt x="7587" y="8430"/>
                  <a:pt x="7673" y="8726"/>
                  <a:pt x="7615" y="9004"/>
                </a:cubicBezTo>
                <a:cubicBezTo>
                  <a:pt x="7570" y="9217"/>
                  <a:pt x="7420" y="9370"/>
                  <a:pt x="7243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71880" y="3089160"/>
            <a:ext cx="1019160" cy="331920"/>
          </a:xfrm>
          <a:custGeom>
            <a:avLst/>
            <a:gdLst/>
            <a:ahLst/>
            <a:rect l="l" t="t" r="r" b="b"/>
            <a:pathLst>
              <a:path w="2829" h="919">
                <a:moveTo>
                  <a:pt x="8830" y="8682"/>
                </a:moveTo>
                <a:cubicBezTo>
                  <a:pt x="8831" y="8712"/>
                  <a:pt x="8645" y="8876"/>
                  <a:pt x="8533" y="8954"/>
                </a:cubicBezTo>
                <a:cubicBezTo>
                  <a:pt x="8707" y="8954"/>
                  <a:pt x="8763" y="8981"/>
                  <a:pt x="8905" y="9079"/>
                </a:cubicBezTo>
              </a:path>
              <a:path w="2829" h="919">
                <a:moveTo>
                  <a:pt x="8930" y="8582"/>
                </a:moveTo>
                <a:cubicBezTo>
                  <a:pt x="8864" y="8831"/>
                  <a:pt x="8794" y="9077"/>
                  <a:pt x="8731" y="9327"/>
                </a:cubicBezTo>
              </a:path>
              <a:path w="2829" h="919">
                <a:moveTo>
                  <a:pt x="9054" y="8806"/>
                </a:moveTo>
                <a:cubicBezTo>
                  <a:pt x="9106" y="8971"/>
                  <a:pt x="9156" y="9136"/>
                  <a:pt x="9203" y="9302"/>
                </a:cubicBezTo>
              </a:path>
              <a:path w="2829" h="919">
                <a:moveTo>
                  <a:pt x="9351" y="8830"/>
                </a:moveTo>
                <a:cubicBezTo>
                  <a:pt x="9249" y="8953"/>
                  <a:pt x="9148" y="9074"/>
                  <a:pt x="9054" y="9203"/>
                </a:cubicBezTo>
              </a:path>
              <a:path w="2829" h="919">
                <a:moveTo>
                  <a:pt x="9550" y="8806"/>
                </a:moveTo>
                <a:cubicBezTo>
                  <a:pt x="9616" y="8772"/>
                  <a:pt x="9452" y="9031"/>
                  <a:pt x="9426" y="9079"/>
                </a:cubicBezTo>
                <a:cubicBezTo>
                  <a:pt x="9522" y="9015"/>
                  <a:pt x="9589" y="9040"/>
                  <a:pt x="9699" y="9079"/>
                </a:cubicBezTo>
                <a:cubicBezTo>
                  <a:pt x="9715" y="9087"/>
                  <a:pt x="9732" y="9095"/>
                  <a:pt x="9748" y="9103"/>
                </a:cubicBezTo>
                <a:cubicBezTo>
                  <a:pt x="9761" y="8988"/>
                  <a:pt x="9777" y="8872"/>
                  <a:pt x="9798" y="8756"/>
                </a:cubicBezTo>
                <a:cubicBezTo>
                  <a:pt x="9806" y="8715"/>
                  <a:pt x="9815" y="8673"/>
                  <a:pt x="9823" y="8632"/>
                </a:cubicBezTo>
                <a:cubicBezTo>
                  <a:pt x="9783" y="8592"/>
                  <a:pt x="9710" y="9105"/>
                  <a:pt x="9699" y="9153"/>
                </a:cubicBezTo>
                <a:cubicBezTo>
                  <a:pt x="9675" y="9261"/>
                  <a:pt x="9648" y="9403"/>
                  <a:pt x="9599" y="9500"/>
                </a:cubicBezTo>
              </a:path>
              <a:path w="2829" h="919">
                <a:moveTo>
                  <a:pt x="9996" y="8979"/>
                </a:moveTo>
                <a:cubicBezTo>
                  <a:pt x="10112" y="8979"/>
                  <a:pt x="10228" y="8979"/>
                  <a:pt x="10344" y="8979"/>
                </a:cubicBezTo>
              </a:path>
              <a:path w="2829" h="919">
                <a:moveTo>
                  <a:pt x="10021" y="9103"/>
                </a:moveTo>
                <a:cubicBezTo>
                  <a:pt x="10136" y="9103"/>
                  <a:pt x="10233" y="9104"/>
                  <a:pt x="10344" y="9128"/>
                </a:cubicBezTo>
              </a:path>
              <a:path w="2829" h="919">
                <a:moveTo>
                  <a:pt x="10790" y="8756"/>
                </a:moveTo>
                <a:cubicBezTo>
                  <a:pt x="10737" y="8920"/>
                  <a:pt x="10700" y="9092"/>
                  <a:pt x="10641" y="9252"/>
                </a:cubicBezTo>
              </a:path>
              <a:path w="2829" h="919">
                <a:moveTo>
                  <a:pt x="11112" y="8706"/>
                </a:moveTo>
                <a:cubicBezTo>
                  <a:pt x="11061" y="8810"/>
                  <a:pt x="11004" y="8958"/>
                  <a:pt x="10988" y="9079"/>
                </a:cubicBezTo>
                <a:cubicBezTo>
                  <a:pt x="10972" y="9204"/>
                  <a:pt x="11046" y="9301"/>
                  <a:pt x="11187" y="9252"/>
                </a:cubicBezTo>
                <a:cubicBezTo>
                  <a:pt x="11310" y="9209"/>
                  <a:pt x="11337" y="9159"/>
                  <a:pt x="11361" y="9054"/>
                </a:cubicBezTo>
                <a:cubicBezTo>
                  <a:pt x="11259" y="9043"/>
                  <a:pt x="11160" y="9111"/>
                  <a:pt x="11112" y="9227"/>
                </a:cubicBezTo>
                <a:cubicBezTo>
                  <a:pt x="11112" y="9279"/>
                  <a:pt x="11113" y="9297"/>
                  <a:pt x="1113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5160" y="2768760"/>
            <a:ext cx="1581120" cy="347400"/>
          </a:xfrm>
          <a:custGeom>
            <a:avLst/>
            <a:gdLst/>
            <a:ahLst/>
            <a:rect l="l" t="t" r="r" b="b"/>
            <a:pathLst>
              <a:path w="4392" h="969">
                <a:moveTo>
                  <a:pt x="15354" y="8062"/>
                </a:moveTo>
                <a:cubicBezTo>
                  <a:pt x="15237" y="8278"/>
                  <a:pt x="15109" y="8439"/>
                  <a:pt x="14932" y="8607"/>
                </a:cubicBezTo>
                <a:cubicBezTo>
                  <a:pt x="15100" y="8313"/>
                  <a:pt x="15234" y="8120"/>
                  <a:pt x="15528" y="7962"/>
                </a:cubicBezTo>
                <a:cubicBezTo>
                  <a:pt x="15606" y="8200"/>
                  <a:pt x="15565" y="8385"/>
                  <a:pt x="15429" y="8607"/>
                </a:cubicBezTo>
                <a:cubicBezTo>
                  <a:pt x="15412" y="8624"/>
                  <a:pt x="15396" y="8640"/>
                  <a:pt x="15379" y="8657"/>
                </a:cubicBezTo>
              </a:path>
              <a:path w="4392" h="969">
                <a:moveTo>
                  <a:pt x="15106" y="8384"/>
                </a:moveTo>
                <a:cubicBezTo>
                  <a:pt x="15304" y="8346"/>
                  <a:pt x="15499" y="8329"/>
                  <a:pt x="15701" y="8310"/>
                </a:cubicBezTo>
              </a:path>
              <a:path w="4392" h="969">
                <a:moveTo>
                  <a:pt x="15974" y="8310"/>
                </a:moveTo>
                <a:cubicBezTo>
                  <a:pt x="16116" y="8251"/>
                  <a:pt x="16192" y="8247"/>
                  <a:pt x="16346" y="8235"/>
                </a:cubicBezTo>
              </a:path>
              <a:path w="4392" h="969">
                <a:moveTo>
                  <a:pt x="15850" y="8483"/>
                </a:moveTo>
                <a:cubicBezTo>
                  <a:pt x="16009" y="8459"/>
                  <a:pt x="16161" y="8441"/>
                  <a:pt x="16321" y="8434"/>
                </a:cubicBezTo>
              </a:path>
              <a:path w="4392" h="969">
                <a:moveTo>
                  <a:pt x="17066" y="8037"/>
                </a:moveTo>
                <a:cubicBezTo>
                  <a:pt x="17036" y="8096"/>
                  <a:pt x="16953" y="8378"/>
                  <a:pt x="16867" y="8508"/>
                </a:cubicBezTo>
                <a:cubicBezTo>
                  <a:pt x="16851" y="8525"/>
                  <a:pt x="16834" y="8541"/>
                  <a:pt x="16818" y="8558"/>
                </a:cubicBezTo>
              </a:path>
              <a:path w="4392" h="969">
                <a:moveTo>
                  <a:pt x="17314" y="8111"/>
                </a:moveTo>
                <a:cubicBezTo>
                  <a:pt x="17266" y="8277"/>
                  <a:pt x="17234" y="8396"/>
                  <a:pt x="17140" y="8533"/>
                </a:cubicBezTo>
              </a:path>
              <a:path w="4392" h="969">
                <a:moveTo>
                  <a:pt x="16718" y="8086"/>
                </a:moveTo>
                <a:cubicBezTo>
                  <a:pt x="16769" y="8029"/>
                  <a:pt x="16967" y="7757"/>
                  <a:pt x="17041" y="7863"/>
                </a:cubicBezTo>
                <a:cubicBezTo>
                  <a:pt x="17187" y="8072"/>
                  <a:pt x="17325" y="8194"/>
                  <a:pt x="17587" y="8012"/>
                </a:cubicBezTo>
                <a:cubicBezTo>
                  <a:pt x="17665" y="7915"/>
                  <a:pt x="17713" y="7904"/>
                  <a:pt x="17661" y="7838"/>
                </a:cubicBezTo>
              </a:path>
              <a:path w="4392" h="969">
                <a:moveTo>
                  <a:pt x="18231" y="8235"/>
                </a:moveTo>
                <a:cubicBezTo>
                  <a:pt x="18189" y="8363"/>
                  <a:pt x="18185" y="8394"/>
                  <a:pt x="18132" y="8458"/>
                </a:cubicBezTo>
                <a:cubicBezTo>
                  <a:pt x="18148" y="8320"/>
                  <a:pt x="18180" y="8127"/>
                  <a:pt x="18306" y="8037"/>
                </a:cubicBezTo>
                <a:cubicBezTo>
                  <a:pt x="18376" y="7987"/>
                  <a:pt x="18500" y="8012"/>
                  <a:pt x="18579" y="8012"/>
                </a:cubicBezTo>
              </a:path>
              <a:path w="4392" h="969">
                <a:moveTo>
                  <a:pt x="19075" y="7764"/>
                </a:moveTo>
                <a:cubicBezTo>
                  <a:pt x="19143" y="7730"/>
                  <a:pt x="19201" y="7704"/>
                  <a:pt x="19273" y="7689"/>
                </a:cubicBezTo>
                <a:cubicBezTo>
                  <a:pt x="19285" y="7862"/>
                  <a:pt x="19235" y="8008"/>
                  <a:pt x="19025" y="8037"/>
                </a:cubicBezTo>
                <a:cubicBezTo>
                  <a:pt x="19009" y="8029"/>
                  <a:pt x="18992" y="8020"/>
                  <a:pt x="18976" y="8012"/>
                </a:cubicBezTo>
                <a:cubicBezTo>
                  <a:pt x="18995" y="7872"/>
                  <a:pt x="19152" y="7982"/>
                  <a:pt x="19273" y="8037"/>
                </a:cubicBezTo>
                <a:cubicBezTo>
                  <a:pt x="19290" y="8045"/>
                  <a:pt x="19306" y="8054"/>
                  <a:pt x="19323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4880" y="3544920"/>
            <a:ext cx="196920" cy="24120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2059" y="9897"/>
                </a:moveTo>
                <a:cubicBezTo>
                  <a:pt x="2059" y="10038"/>
                  <a:pt x="2095" y="10290"/>
                  <a:pt x="1960" y="10393"/>
                </a:cubicBezTo>
                <a:cubicBezTo>
                  <a:pt x="1960" y="10377"/>
                  <a:pt x="1960" y="10360"/>
                  <a:pt x="1960" y="10344"/>
                </a:cubicBezTo>
                <a:cubicBezTo>
                  <a:pt x="2078" y="10140"/>
                  <a:pt x="2155" y="10005"/>
                  <a:pt x="2332" y="9847"/>
                </a:cubicBezTo>
                <a:cubicBezTo>
                  <a:pt x="2466" y="10017"/>
                  <a:pt x="2450" y="10206"/>
                  <a:pt x="2381" y="10418"/>
                </a:cubicBezTo>
                <a:cubicBezTo>
                  <a:pt x="2365" y="10451"/>
                  <a:pt x="2348" y="10484"/>
                  <a:pt x="2332" y="10517"/>
                </a:cubicBezTo>
              </a:path>
              <a:path w="546" h="671">
                <a:moveTo>
                  <a:pt x="2034" y="10294"/>
                </a:moveTo>
                <a:cubicBezTo>
                  <a:pt x="2192" y="10274"/>
                  <a:pt x="2346" y="10262"/>
                  <a:pt x="2505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54080" y="3500280"/>
            <a:ext cx="482760" cy="23184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2927" y="10269"/>
                </a:moveTo>
                <a:cubicBezTo>
                  <a:pt x="3041" y="10240"/>
                  <a:pt x="3090" y="10232"/>
                  <a:pt x="3175" y="10244"/>
                </a:cubicBezTo>
              </a:path>
              <a:path w="1340" h="646">
                <a:moveTo>
                  <a:pt x="2952" y="10368"/>
                </a:moveTo>
                <a:cubicBezTo>
                  <a:pt x="2993" y="10360"/>
                  <a:pt x="3035" y="10352"/>
                  <a:pt x="3076" y="10344"/>
                </a:cubicBezTo>
              </a:path>
              <a:path w="1340" h="646">
                <a:moveTo>
                  <a:pt x="3621" y="9897"/>
                </a:moveTo>
                <a:cubicBezTo>
                  <a:pt x="3664" y="9863"/>
                  <a:pt x="3995" y="9617"/>
                  <a:pt x="3969" y="9773"/>
                </a:cubicBezTo>
                <a:cubicBezTo>
                  <a:pt x="3947" y="9905"/>
                  <a:pt x="3865" y="9950"/>
                  <a:pt x="3770" y="10021"/>
                </a:cubicBezTo>
                <a:cubicBezTo>
                  <a:pt x="3848" y="10011"/>
                  <a:pt x="3973" y="9961"/>
                  <a:pt x="3919" y="10120"/>
                </a:cubicBezTo>
                <a:cubicBezTo>
                  <a:pt x="3883" y="10225"/>
                  <a:pt x="3586" y="10500"/>
                  <a:pt x="3497" y="10294"/>
                </a:cubicBezTo>
                <a:cubicBezTo>
                  <a:pt x="3505" y="10269"/>
                  <a:pt x="3514" y="10245"/>
                  <a:pt x="3522" y="10220"/>
                </a:cubicBezTo>
              </a:path>
              <a:path w="1340" h="646">
                <a:moveTo>
                  <a:pt x="4266" y="10344"/>
                </a:moveTo>
                <a:lnTo>
                  <a:pt x="4266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60680" y="3500280"/>
            <a:ext cx="723600" cy="304920"/>
          </a:xfrm>
          <a:custGeom>
            <a:avLst/>
            <a:gdLst/>
            <a:ahLst/>
            <a:rect l="l" t="t" r="r" b="b"/>
            <a:pathLst>
              <a:path w="2010" h="845">
                <a:moveTo>
                  <a:pt x="4663" y="9872"/>
                </a:moveTo>
                <a:cubicBezTo>
                  <a:pt x="4657" y="10006"/>
                  <a:pt x="4644" y="10113"/>
                  <a:pt x="4614" y="10244"/>
                </a:cubicBezTo>
              </a:path>
              <a:path w="2010" h="845">
                <a:moveTo>
                  <a:pt x="4862" y="9872"/>
                </a:moveTo>
                <a:cubicBezTo>
                  <a:pt x="4862" y="9948"/>
                  <a:pt x="4862" y="9974"/>
                  <a:pt x="4837" y="10021"/>
                </a:cubicBezTo>
                <a:cubicBezTo>
                  <a:pt x="4939" y="10066"/>
                  <a:pt x="5000" y="10088"/>
                  <a:pt x="5110" y="10096"/>
                </a:cubicBezTo>
              </a:path>
              <a:path w="2010" h="845">
                <a:moveTo>
                  <a:pt x="5234" y="9798"/>
                </a:moveTo>
                <a:cubicBezTo>
                  <a:pt x="5171" y="9980"/>
                  <a:pt x="5120" y="10165"/>
                  <a:pt x="5060" y="10344"/>
                </a:cubicBezTo>
              </a:path>
              <a:path w="2010" h="845">
                <a:moveTo>
                  <a:pt x="5755" y="9823"/>
                </a:moveTo>
                <a:cubicBezTo>
                  <a:pt x="5597" y="9970"/>
                  <a:pt x="5425" y="10127"/>
                  <a:pt x="5507" y="10368"/>
                </a:cubicBezTo>
                <a:cubicBezTo>
                  <a:pt x="5553" y="10415"/>
                  <a:pt x="5565" y="10429"/>
                  <a:pt x="5606" y="10443"/>
                </a:cubicBezTo>
              </a:path>
              <a:path w="2010" h="845">
                <a:moveTo>
                  <a:pt x="5829" y="10071"/>
                </a:moveTo>
                <a:cubicBezTo>
                  <a:pt x="5829" y="10030"/>
                  <a:pt x="5829" y="9988"/>
                  <a:pt x="5829" y="9947"/>
                </a:cubicBezTo>
                <a:cubicBezTo>
                  <a:pt x="5804" y="10071"/>
                  <a:pt x="5774" y="10196"/>
                  <a:pt x="5755" y="10319"/>
                </a:cubicBezTo>
              </a:path>
              <a:path w="2010" h="845">
                <a:moveTo>
                  <a:pt x="6052" y="9947"/>
                </a:moveTo>
                <a:cubicBezTo>
                  <a:pt x="5997" y="10044"/>
                  <a:pt x="5970" y="10180"/>
                  <a:pt x="5953" y="10294"/>
                </a:cubicBezTo>
                <a:cubicBezTo>
                  <a:pt x="5953" y="10311"/>
                  <a:pt x="5953" y="10327"/>
                  <a:pt x="5953" y="10344"/>
                </a:cubicBezTo>
                <a:cubicBezTo>
                  <a:pt x="6081" y="10338"/>
                  <a:pt x="6242" y="10365"/>
                  <a:pt x="6276" y="10220"/>
                </a:cubicBezTo>
                <a:cubicBezTo>
                  <a:pt x="6276" y="10212"/>
                  <a:pt x="6276" y="10203"/>
                  <a:pt x="6276" y="10195"/>
                </a:cubicBezTo>
                <a:cubicBezTo>
                  <a:pt x="6168" y="10141"/>
                  <a:pt x="6128" y="10205"/>
                  <a:pt x="6102" y="10319"/>
                </a:cubicBezTo>
                <a:cubicBezTo>
                  <a:pt x="6102" y="10335"/>
                  <a:pt x="6102" y="10352"/>
                  <a:pt x="6102" y="10368"/>
                </a:cubicBezTo>
              </a:path>
              <a:path w="2010" h="845">
                <a:moveTo>
                  <a:pt x="6449" y="9723"/>
                </a:moveTo>
                <a:cubicBezTo>
                  <a:pt x="6552" y="9971"/>
                  <a:pt x="6682" y="10168"/>
                  <a:pt x="6548" y="10418"/>
                </a:cubicBezTo>
                <a:cubicBezTo>
                  <a:pt x="6485" y="10503"/>
                  <a:pt x="6472" y="10523"/>
                  <a:pt x="6424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13240" y="3241800"/>
            <a:ext cx="428760" cy="241200"/>
          </a:xfrm>
          <a:custGeom>
            <a:avLst/>
            <a:gdLst/>
            <a:ahLst/>
            <a:rect l="l" t="t" r="r" b="b"/>
            <a:pathLst>
              <a:path w="1191" h="671">
                <a:moveTo>
                  <a:pt x="15032" y="9128"/>
                </a:moveTo>
                <a:cubicBezTo>
                  <a:pt x="14948" y="9295"/>
                  <a:pt x="14865" y="9446"/>
                  <a:pt x="14759" y="9599"/>
                </a:cubicBezTo>
                <a:cubicBezTo>
                  <a:pt x="14853" y="9331"/>
                  <a:pt x="14981" y="9178"/>
                  <a:pt x="15205" y="9004"/>
                </a:cubicBezTo>
                <a:cubicBezTo>
                  <a:pt x="15394" y="9194"/>
                  <a:pt x="15307" y="9355"/>
                  <a:pt x="15180" y="9599"/>
                </a:cubicBezTo>
                <a:cubicBezTo>
                  <a:pt x="15164" y="9624"/>
                  <a:pt x="15147" y="9649"/>
                  <a:pt x="15131" y="9674"/>
                </a:cubicBezTo>
              </a:path>
              <a:path w="1191" h="671">
                <a:moveTo>
                  <a:pt x="14932" y="9351"/>
                </a:moveTo>
                <a:cubicBezTo>
                  <a:pt x="15007" y="9343"/>
                  <a:pt x="15081" y="9335"/>
                  <a:pt x="15156" y="9327"/>
                </a:cubicBezTo>
              </a:path>
              <a:path w="1191" h="671">
                <a:moveTo>
                  <a:pt x="15801" y="9277"/>
                </a:moveTo>
                <a:cubicBezTo>
                  <a:pt x="15850" y="9269"/>
                  <a:pt x="15900" y="9260"/>
                  <a:pt x="15949" y="9252"/>
                </a:cubicBezTo>
              </a:path>
              <a:path w="1191" h="671">
                <a:moveTo>
                  <a:pt x="15726" y="9376"/>
                </a:moveTo>
                <a:cubicBezTo>
                  <a:pt x="15776" y="9376"/>
                  <a:pt x="15825" y="9376"/>
                  <a:pt x="15875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2200" y="3054240"/>
            <a:ext cx="1251000" cy="384120"/>
          </a:xfrm>
          <a:custGeom>
            <a:avLst/>
            <a:gdLst/>
            <a:ahLst/>
            <a:rect l="l" t="t" r="r" b="b"/>
            <a:pathLst>
              <a:path w="3474" h="1068">
                <a:moveTo>
                  <a:pt x="16694" y="8979"/>
                </a:moveTo>
                <a:cubicBezTo>
                  <a:pt x="16734" y="8936"/>
                  <a:pt x="16660" y="9013"/>
                  <a:pt x="16619" y="9054"/>
                </a:cubicBezTo>
                <a:cubicBezTo>
                  <a:pt x="16660" y="9024"/>
                  <a:pt x="16970" y="8856"/>
                  <a:pt x="16917" y="9054"/>
                </a:cubicBezTo>
                <a:cubicBezTo>
                  <a:pt x="16892" y="9147"/>
                  <a:pt x="16462" y="9340"/>
                  <a:pt x="16694" y="9178"/>
                </a:cubicBezTo>
                <a:cubicBezTo>
                  <a:pt x="16786" y="9270"/>
                  <a:pt x="16857" y="9475"/>
                  <a:pt x="16619" y="9475"/>
                </a:cubicBezTo>
                <a:cubicBezTo>
                  <a:pt x="16443" y="9475"/>
                  <a:pt x="16421" y="9391"/>
                  <a:pt x="16421" y="9277"/>
                </a:cubicBezTo>
              </a:path>
              <a:path w="3474" h="1068">
                <a:moveTo>
                  <a:pt x="17115" y="9079"/>
                </a:moveTo>
                <a:lnTo>
                  <a:pt x="17115" y="9079"/>
                </a:lnTo>
              </a:path>
              <a:path w="3474" h="1068">
                <a:moveTo>
                  <a:pt x="17066" y="9376"/>
                </a:moveTo>
                <a:cubicBezTo>
                  <a:pt x="16974" y="9366"/>
                  <a:pt x="16975" y="9361"/>
                  <a:pt x="16942" y="9451"/>
                </a:cubicBezTo>
                <a:cubicBezTo>
                  <a:pt x="17080" y="9427"/>
                  <a:pt x="17096" y="9418"/>
                  <a:pt x="17016" y="9327"/>
                </a:cubicBezTo>
              </a:path>
              <a:path w="3474" h="1068">
                <a:moveTo>
                  <a:pt x="17239" y="8954"/>
                </a:moveTo>
                <a:cubicBezTo>
                  <a:pt x="17353" y="9049"/>
                  <a:pt x="17238" y="9190"/>
                  <a:pt x="17165" y="9327"/>
                </a:cubicBezTo>
                <a:cubicBezTo>
                  <a:pt x="17157" y="9343"/>
                  <a:pt x="17148" y="9360"/>
                  <a:pt x="17140" y="9376"/>
                </a:cubicBezTo>
              </a:path>
              <a:path w="3474" h="1068">
                <a:moveTo>
                  <a:pt x="17512" y="8930"/>
                </a:moveTo>
                <a:cubicBezTo>
                  <a:pt x="17497" y="9045"/>
                  <a:pt x="17474" y="9131"/>
                  <a:pt x="17413" y="9227"/>
                </a:cubicBezTo>
                <a:cubicBezTo>
                  <a:pt x="17515" y="9253"/>
                  <a:pt x="17664" y="9210"/>
                  <a:pt x="17785" y="9203"/>
                </a:cubicBezTo>
              </a:path>
              <a:path w="3474" h="1068">
                <a:moveTo>
                  <a:pt x="17859" y="8954"/>
                </a:moveTo>
                <a:cubicBezTo>
                  <a:pt x="17790" y="9154"/>
                  <a:pt x="17730" y="9353"/>
                  <a:pt x="17611" y="9525"/>
                </a:cubicBezTo>
              </a:path>
              <a:path w="3474" h="1068">
                <a:moveTo>
                  <a:pt x="18529" y="8806"/>
                </a:moveTo>
                <a:cubicBezTo>
                  <a:pt x="18357" y="8940"/>
                  <a:pt x="18183" y="9094"/>
                  <a:pt x="18157" y="9327"/>
                </a:cubicBezTo>
                <a:cubicBezTo>
                  <a:pt x="18141" y="9471"/>
                  <a:pt x="18232" y="9501"/>
                  <a:pt x="18331" y="9550"/>
                </a:cubicBezTo>
              </a:path>
              <a:path w="3474" h="1068">
                <a:moveTo>
                  <a:pt x="18926" y="8905"/>
                </a:moveTo>
                <a:cubicBezTo>
                  <a:pt x="18847" y="8983"/>
                  <a:pt x="18797" y="9068"/>
                  <a:pt x="18728" y="9153"/>
                </a:cubicBezTo>
                <a:cubicBezTo>
                  <a:pt x="18689" y="9200"/>
                  <a:pt x="18636" y="9272"/>
                  <a:pt x="18703" y="9327"/>
                </a:cubicBezTo>
                <a:cubicBezTo>
                  <a:pt x="18797" y="9405"/>
                  <a:pt x="19004" y="9393"/>
                  <a:pt x="19075" y="9277"/>
                </a:cubicBezTo>
                <a:cubicBezTo>
                  <a:pt x="19075" y="9252"/>
                  <a:pt x="19075" y="9228"/>
                  <a:pt x="19075" y="9203"/>
                </a:cubicBezTo>
                <a:cubicBezTo>
                  <a:pt x="18974" y="9169"/>
                  <a:pt x="18892" y="9236"/>
                  <a:pt x="18827" y="9327"/>
                </a:cubicBezTo>
                <a:cubicBezTo>
                  <a:pt x="18819" y="9343"/>
                  <a:pt x="18810" y="9360"/>
                  <a:pt x="18802" y="9376"/>
                </a:cubicBezTo>
              </a:path>
              <a:path w="3474" h="1068">
                <a:moveTo>
                  <a:pt x="19248" y="8756"/>
                </a:moveTo>
                <a:cubicBezTo>
                  <a:pt x="19306" y="8756"/>
                  <a:pt x="19364" y="8756"/>
                  <a:pt x="19422" y="8756"/>
                </a:cubicBezTo>
                <a:cubicBezTo>
                  <a:pt x="19422" y="8952"/>
                  <a:pt x="19388" y="8918"/>
                  <a:pt x="19199" y="9004"/>
                </a:cubicBezTo>
                <a:cubicBezTo>
                  <a:pt x="19292" y="9013"/>
                  <a:pt x="19377" y="9029"/>
                  <a:pt x="19472" y="9029"/>
                </a:cubicBezTo>
              </a:path>
              <a:path w="3474" h="1068">
                <a:moveTo>
                  <a:pt x="19621" y="8483"/>
                </a:moveTo>
                <a:cubicBezTo>
                  <a:pt x="19831" y="8624"/>
                  <a:pt x="19900" y="8878"/>
                  <a:pt x="19844" y="9153"/>
                </a:cubicBezTo>
                <a:cubicBezTo>
                  <a:pt x="19808" y="9332"/>
                  <a:pt x="19703" y="9381"/>
                  <a:pt x="19571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8240" y="3160800"/>
            <a:ext cx="546120" cy="196920"/>
          </a:xfrm>
          <a:custGeom>
            <a:avLst/>
            <a:gdLst/>
            <a:ahLst/>
            <a:rect l="l" t="t" r="r" b="b"/>
            <a:pathLst>
              <a:path w="1514" h="547">
                <a:moveTo>
                  <a:pt x="21208" y="8781"/>
                </a:moveTo>
                <a:cubicBezTo>
                  <a:pt x="21086" y="8939"/>
                  <a:pt x="20938" y="9094"/>
                  <a:pt x="20886" y="9277"/>
                </a:cubicBezTo>
                <a:cubicBezTo>
                  <a:pt x="21062" y="9353"/>
                  <a:pt x="21201" y="9310"/>
                  <a:pt x="21357" y="9178"/>
                </a:cubicBezTo>
                <a:cubicBezTo>
                  <a:pt x="21466" y="9086"/>
                  <a:pt x="21155" y="9235"/>
                  <a:pt x="21109" y="9277"/>
                </a:cubicBezTo>
              </a:path>
              <a:path w="1514" h="547">
                <a:moveTo>
                  <a:pt x="21580" y="8979"/>
                </a:moveTo>
                <a:cubicBezTo>
                  <a:pt x="21610" y="9056"/>
                  <a:pt x="21642" y="9129"/>
                  <a:pt x="21679" y="9203"/>
                </a:cubicBezTo>
              </a:path>
              <a:path w="1514" h="547">
                <a:moveTo>
                  <a:pt x="21878" y="8905"/>
                </a:moveTo>
                <a:cubicBezTo>
                  <a:pt x="21742" y="9011"/>
                  <a:pt x="21636" y="9142"/>
                  <a:pt x="21506" y="9252"/>
                </a:cubicBezTo>
              </a:path>
              <a:path w="1514" h="547">
                <a:moveTo>
                  <a:pt x="22200" y="8830"/>
                </a:moveTo>
                <a:cubicBezTo>
                  <a:pt x="22093" y="8943"/>
                  <a:pt x="21987" y="8998"/>
                  <a:pt x="21977" y="9153"/>
                </a:cubicBezTo>
                <a:cubicBezTo>
                  <a:pt x="21985" y="9178"/>
                  <a:pt x="21994" y="9202"/>
                  <a:pt x="22002" y="9227"/>
                </a:cubicBezTo>
                <a:cubicBezTo>
                  <a:pt x="22142" y="9257"/>
                  <a:pt x="22299" y="9263"/>
                  <a:pt x="22399" y="9128"/>
                </a:cubicBezTo>
                <a:cubicBezTo>
                  <a:pt x="22399" y="9112"/>
                  <a:pt x="22399" y="9095"/>
                  <a:pt x="22399" y="9079"/>
                </a:cubicBezTo>
                <a:cubicBezTo>
                  <a:pt x="22277" y="9092"/>
                  <a:pt x="22217" y="9145"/>
                  <a:pt x="2212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42200" y="3116160"/>
            <a:ext cx="438120" cy="1890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22895" y="9079"/>
                </a:moveTo>
                <a:cubicBezTo>
                  <a:pt x="22980" y="9068"/>
                  <a:pt x="23058" y="9059"/>
                  <a:pt x="23143" y="9054"/>
                </a:cubicBezTo>
              </a:path>
              <a:path w="1216" h="522">
                <a:moveTo>
                  <a:pt x="22895" y="9178"/>
                </a:moveTo>
                <a:cubicBezTo>
                  <a:pt x="22961" y="9178"/>
                  <a:pt x="23027" y="9178"/>
                  <a:pt x="23093" y="9178"/>
                </a:cubicBezTo>
              </a:path>
              <a:path w="1216" h="522">
                <a:moveTo>
                  <a:pt x="23564" y="8756"/>
                </a:moveTo>
                <a:cubicBezTo>
                  <a:pt x="23697" y="8736"/>
                  <a:pt x="23743" y="8710"/>
                  <a:pt x="23837" y="8781"/>
                </a:cubicBezTo>
                <a:cubicBezTo>
                  <a:pt x="23676" y="8931"/>
                  <a:pt x="23567" y="8965"/>
                  <a:pt x="23341" y="8979"/>
                </a:cubicBezTo>
                <a:cubicBezTo>
                  <a:pt x="23479" y="8950"/>
                  <a:pt x="23889" y="9025"/>
                  <a:pt x="23540" y="9128"/>
                </a:cubicBezTo>
                <a:cubicBezTo>
                  <a:pt x="23399" y="9128"/>
                  <a:pt x="23356" y="9129"/>
                  <a:pt x="23267" y="9103"/>
                </a:cubicBezTo>
              </a:path>
              <a:path w="1216" h="522">
                <a:moveTo>
                  <a:pt x="23961" y="8657"/>
                </a:moveTo>
                <a:cubicBezTo>
                  <a:pt x="23940" y="8792"/>
                  <a:pt x="23796" y="8945"/>
                  <a:pt x="23812" y="9079"/>
                </a:cubicBezTo>
                <a:cubicBezTo>
                  <a:pt x="23835" y="9271"/>
                  <a:pt x="24070" y="9143"/>
                  <a:pt x="24110" y="9079"/>
                </a:cubicBezTo>
                <a:cubicBezTo>
                  <a:pt x="24044" y="9045"/>
                  <a:pt x="24011" y="9045"/>
                  <a:pt x="23961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9960" y="3884760"/>
            <a:ext cx="312840" cy="23148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2059" y="10889"/>
                </a:moveTo>
                <a:cubicBezTo>
                  <a:pt x="1994" y="11054"/>
                  <a:pt x="1915" y="11222"/>
                  <a:pt x="1860" y="11385"/>
                </a:cubicBezTo>
                <a:cubicBezTo>
                  <a:pt x="1860" y="11219"/>
                  <a:pt x="1977" y="11030"/>
                  <a:pt x="2059" y="10889"/>
                </a:cubicBezTo>
                <a:cubicBezTo>
                  <a:pt x="2084" y="10856"/>
                  <a:pt x="2108" y="10823"/>
                  <a:pt x="2133" y="10790"/>
                </a:cubicBezTo>
                <a:cubicBezTo>
                  <a:pt x="2345" y="10918"/>
                  <a:pt x="2324" y="11062"/>
                  <a:pt x="2282" y="11311"/>
                </a:cubicBezTo>
                <a:cubicBezTo>
                  <a:pt x="2262" y="11388"/>
                  <a:pt x="2270" y="11406"/>
                  <a:pt x="2232" y="11435"/>
                </a:cubicBezTo>
              </a:path>
              <a:path w="870" h="646">
                <a:moveTo>
                  <a:pt x="1960" y="11162"/>
                </a:moveTo>
                <a:cubicBezTo>
                  <a:pt x="2039" y="11144"/>
                  <a:pt x="2101" y="11137"/>
                  <a:pt x="2183" y="11137"/>
                </a:cubicBezTo>
              </a:path>
              <a:path w="870" h="646">
                <a:moveTo>
                  <a:pt x="2604" y="11112"/>
                </a:moveTo>
                <a:cubicBezTo>
                  <a:pt x="2654" y="11112"/>
                  <a:pt x="2671" y="11112"/>
                  <a:pt x="2704" y="11112"/>
                </a:cubicBezTo>
              </a:path>
              <a:path w="870" h="646">
                <a:moveTo>
                  <a:pt x="2604" y="11286"/>
                </a:moveTo>
                <a:cubicBezTo>
                  <a:pt x="2662" y="11286"/>
                  <a:pt x="2687" y="11286"/>
                  <a:pt x="272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52360" y="3714840"/>
            <a:ext cx="892440" cy="438120"/>
          </a:xfrm>
          <a:custGeom>
            <a:avLst/>
            <a:gdLst/>
            <a:ahLst/>
            <a:rect l="l" t="t" r="r" b="b"/>
            <a:pathLst>
              <a:path w="2481" h="1216">
                <a:moveTo>
                  <a:pt x="4242" y="10319"/>
                </a:moveTo>
                <a:cubicBezTo>
                  <a:pt x="4242" y="10370"/>
                  <a:pt x="4244" y="10385"/>
                  <a:pt x="4291" y="10344"/>
                </a:cubicBezTo>
              </a:path>
              <a:path w="2481" h="1216">
                <a:moveTo>
                  <a:pt x="3820" y="10914"/>
                </a:moveTo>
                <a:cubicBezTo>
                  <a:pt x="3652" y="10914"/>
                  <a:pt x="3609" y="10863"/>
                  <a:pt x="3497" y="10988"/>
                </a:cubicBezTo>
                <a:cubicBezTo>
                  <a:pt x="3472" y="11021"/>
                  <a:pt x="3448" y="11055"/>
                  <a:pt x="3423" y="11088"/>
                </a:cubicBezTo>
                <a:cubicBezTo>
                  <a:pt x="3507" y="11137"/>
                  <a:pt x="3665" y="11098"/>
                  <a:pt x="3721" y="11212"/>
                </a:cubicBezTo>
                <a:cubicBezTo>
                  <a:pt x="3836" y="11449"/>
                  <a:pt x="3453" y="11564"/>
                  <a:pt x="3299" y="11485"/>
                </a:cubicBezTo>
                <a:cubicBezTo>
                  <a:pt x="3266" y="11452"/>
                  <a:pt x="3233" y="11418"/>
                  <a:pt x="3200" y="11385"/>
                </a:cubicBezTo>
              </a:path>
              <a:path w="2481" h="1216">
                <a:moveTo>
                  <a:pt x="4068" y="11038"/>
                </a:moveTo>
                <a:cubicBezTo>
                  <a:pt x="3937" y="11200"/>
                  <a:pt x="3914" y="11229"/>
                  <a:pt x="3894" y="11435"/>
                </a:cubicBezTo>
                <a:cubicBezTo>
                  <a:pt x="4123" y="11435"/>
                  <a:pt x="4355" y="11335"/>
                  <a:pt x="4242" y="11038"/>
                </a:cubicBezTo>
                <a:cubicBezTo>
                  <a:pt x="4209" y="11005"/>
                  <a:pt x="4175" y="10972"/>
                  <a:pt x="4142" y="10939"/>
                </a:cubicBezTo>
              </a:path>
              <a:path w="2481" h="1216">
                <a:moveTo>
                  <a:pt x="4539" y="11435"/>
                </a:moveTo>
                <a:cubicBezTo>
                  <a:pt x="4531" y="11452"/>
                  <a:pt x="4522" y="11468"/>
                  <a:pt x="4514" y="11485"/>
                </a:cubicBezTo>
              </a:path>
              <a:path w="2481" h="1216">
                <a:moveTo>
                  <a:pt x="4862" y="10988"/>
                </a:moveTo>
                <a:cubicBezTo>
                  <a:pt x="4969" y="10962"/>
                  <a:pt x="5010" y="10956"/>
                  <a:pt x="5085" y="10988"/>
                </a:cubicBezTo>
                <a:cubicBezTo>
                  <a:pt x="5097" y="11252"/>
                  <a:pt x="5037" y="11411"/>
                  <a:pt x="4738" y="11460"/>
                </a:cubicBezTo>
                <a:cubicBezTo>
                  <a:pt x="4721" y="11452"/>
                  <a:pt x="4705" y="11443"/>
                  <a:pt x="4688" y="11435"/>
                </a:cubicBezTo>
                <a:cubicBezTo>
                  <a:pt x="4788" y="11322"/>
                  <a:pt x="5061" y="11077"/>
                  <a:pt x="5135" y="11385"/>
                </a:cubicBezTo>
                <a:cubicBezTo>
                  <a:pt x="5127" y="11410"/>
                  <a:pt x="5118" y="11435"/>
                  <a:pt x="5110" y="11460"/>
                </a:cubicBezTo>
              </a:path>
              <a:path w="2481" h="1216">
                <a:moveTo>
                  <a:pt x="5333" y="10988"/>
                </a:moveTo>
                <a:cubicBezTo>
                  <a:pt x="5310" y="11073"/>
                  <a:pt x="5233" y="11224"/>
                  <a:pt x="5383" y="11261"/>
                </a:cubicBezTo>
                <a:cubicBezTo>
                  <a:pt x="5432" y="11261"/>
                  <a:pt x="5482" y="11261"/>
                  <a:pt x="5531" y="11261"/>
                </a:cubicBezTo>
              </a:path>
              <a:path w="2481" h="1216">
                <a:moveTo>
                  <a:pt x="5680" y="10840"/>
                </a:moveTo>
                <a:cubicBezTo>
                  <a:pt x="5618" y="11061"/>
                  <a:pt x="5560" y="11285"/>
                  <a:pt x="5507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70080" y="3894120"/>
            <a:ext cx="374760" cy="241200"/>
          </a:xfrm>
          <a:custGeom>
            <a:avLst/>
            <a:gdLst/>
            <a:ahLst/>
            <a:rect l="l" t="t" r="r" b="b"/>
            <a:pathLst>
              <a:path w="1042" h="671">
                <a:moveTo>
                  <a:pt x="6152" y="11162"/>
                </a:moveTo>
                <a:cubicBezTo>
                  <a:pt x="6119" y="11279"/>
                  <a:pt x="6084" y="11379"/>
                  <a:pt x="6028" y="11485"/>
                </a:cubicBezTo>
              </a:path>
              <a:path w="1042" h="671">
                <a:moveTo>
                  <a:pt x="6127" y="10964"/>
                </a:moveTo>
                <a:lnTo>
                  <a:pt x="6127" y="10964"/>
                </a:lnTo>
              </a:path>
              <a:path w="1042" h="671">
                <a:moveTo>
                  <a:pt x="6375" y="11336"/>
                </a:moveTo>
                <a:cubicBezTo>
                  <a:pt x="6367" y="11369"/>
                  <a:pt x="6358" y="11402"/>
                  <a:pt x="6350" y="11435"/>
                </a:cubicBezTo>
                <a:cubicBezTo>
                  <a:pt x="6319" y="11363"/>
                  <a:pt x="6308" y="11224"/>
                  <a:pt x="6424" y="11187"/>
                </a:cubicBezTo>
                <a:cubicBezTo>
                  <a:pt x="6625" y="11124"/>
                  <a:pt x="6642" y="11264"/>
                  <a:pt x="6648" y="11410"/>
                </a:cubicBezTo>
                <a:cubicBezTo>
                  <a:pt x="6648" y="11427"/>
                  <a:pt x="6648" y="11443"/>
                  <a:pt x="6648" y="11460"/>
                </a:cubicBezTo>
              </a:path>
              <a:path w="1042" h="671">
                <a:moveTo>
                  <a:pt x="6921" y="10815"/>
                </a:moveTo>
                <a:cubicBezTo>
                  <a:pt x="7024" y="10838"/>
                  <a:pt x="7021" y="10849"/>
                  <a:pt x="7069" y="10939"/>
                </a:cubicBezTo>
                <a:cubicBezTo>
                  <a:pt x="6978" y="11083"/>
                  <a:pt x="6914" y="11070"/>
                  <a:pt x="6747" y="11038"/>
                </a:cubicBezTo>
                <a:cubicBezTo>
                  <a:pt x="6887" y="11031"/>
                  <a:pt x="6879" y="11005"/>
                  <a:pt x="6995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5960" y="3544920"/>
            <a:ext cx="1872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14982" y="10021"/>
                </a:moveTo>
                <a:cubicBezTo>
                  <a:pt x="14885" y="10132"/>
                  <a:pt x="14797" y="10249"/>
                  <a:pt x="14709" y="10368"/>
                </a:cubicBezTo>
                <a:cubicBezTo>
                  <a:pt x="14816" y="10114"/>
                  <a:pt x="14946" y="9979"/>
                  <a:pt x="15180" y="9847"/>
                </a:cubicBezTo>
                <a:cubicBezTo>
                  <a:pt x="15261" y="10049"/>
                  <a:pt x="15217" y="10188"/>
                  <a:pt x="15131" y="10393"/>
                </a:cubicBezTo>
              </a:path>
              <a:path w="522" h="547">
                <a:moveTo>
                  <a:pt x="14932" y="10195"/>
                </a:moveTo>
                <a:cubicBezTo>
                  <a:pt x="15073" y="10195"/>
                  <a:pt x="15132" y="10193"/>
                  <a:pt x="15230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3080" y="3500280"/>
            <a:ext cx="1401840" cy="339840"/>
          </a:xfrm>
          <a:custGeom>
            <a:avLst/>
            <a:gdLst/>
            <a:ahLst/>
            <a:rect l="l" t="t" r="r" b="b"/>
            <a:pathLst>
              <a:path w="3896" h="944">
                <a:moveTo>
                  <a:pt x="15776" y="10120"/>
                </a:moveTo>
                <a:cubicBezTo>
                  <a:pt x="15865" y="10091"/>
                  <a:pt x="15906" y="10086"/>
                  <a:pt x="15974" y="10120"/>
                </a:cubicBezTo>
              </a:path>
              <a:path w="3896" h="944">
                <a:moveTo>
                  <a:pt x="15701" y="10220"/>
                </a:moveTo>
                <a:cubicBezTo>
                  <a:pt x="15726" y="10228"/>
                  <a:pt x="15751" y="10236"/>
                  <a:pt x="15776" y="10244"/>
                </a:cubicBezTo>
              </a:path>
              <a:path w="3896" h="944">
                <a:moveTo>
                  <a:pt x="16446" y="9922"/>
                </a:moveTo>
                <a:cubicBezTo>
                  <a:pt x="16539" y="9863"/>
                  <a:pt x="16590" y="9859"/>
                  <a:pt x="16694" y="9847"/>
                </a:cubicBezTo>
                <a:cubicBezTo>
                  <a:pt x="16707" y="10024"/>
                  <a:pt x="16644" y="10059"/>
                  <a:pt x="16470" y="10096"/>
                </a:cubicBezTo>
                <a:cubicBezTo>
                  <a:pt x="16570" y="10112"/>
                  <a:pt x="16675" y="10228"/>
                  <a:pt x="16545" y="10319"/>
                </a:cubicBezTo>
                <a:cubicBezTo>
                  <a:pt x="16420" y="10407"/>
                  <a:pt x="16304" y="10331"/>
                  <a:pt x="16222" y="10269"/>
                </a:cubicBezTo>
              </a:path>
              <a:path w="3896" h="944">
                <a:moveTo>
                  <a:pt x="16768" y="10344"/>
                </a:moveTo>
                <a:lnTo>
                  <a:pt x="16768" y="10344"/>
                </a:lnTo>
              </a:path>
              <a:path w="3896" h="944">
                <a:moveTo>
                  <a:pt x="17165" y="9897"/>
                </a:moveTo>
                <a:cubicBezTo>
                  <a:pt x="17111" y="10030"/>
                  <a:pt x="17061" y="10158"/>
                  <a:pt x="17016" y="10294"/>
                </a:cubicBezTo>
              </a:path>
              <a:path w="3896" h="944">
                <a:moveTo>
                  <a:pt x="17388" y="9872"/>
                </a:moveTo>
                <a:cubicBezTo>
                  <a:pt x="17341" y="10035"/>
                  <a:pt x="17319" y="10023"/>
                  <a:pt x="17487" y="10071"/>
                </a:cubicBezTo>
              </a:path>
              <a:path w="3896" h="944">
                <a:moveTo>
                  <a:pt x="17735" y="9798"/>
                </a:moveTo>
                <a:cubicBezTo>
                  <a:pt x="17629" y="9966"/>
                  <a:pt x="17527" y="10132"/>
                  <a:pt x="17413" y="10294"/>
                </a:cubicBezTo>
              </a:path>
              <a:path w="3896" h="944">
                <a:moveTo>
                  <a:pt x="18306" y="9773"/>
                </a:moveTo>
                <a:cubicBezTo>
                  <a:pt x="18168" y="9903"/>
                  <a:pt x="17857" y="10167"/>
                  <a:pt x="17934" y="10393"/>
                </a:cubicBezTo>
                <a:cubicBezTo>
                  <a:pt x="18012" y="10471"/>
                  <a:pt x="18015" y="10504"/>
                  <a:pt x="18083" y="10492"/>
                </a:cubicBezTo>
              </a:path>
              <a:path w="3896" h="944">
                <a:moveTo>
                  <a:pt x="18430" y="10145"/>
                </a:moveTo>
                <a:cubicBezTo>
                  <a:pt x="18474" y="10045"/>
                  <a:pt x="18494" y="10034"/>
                  <a:pt x="18628" y="10021"/>
                </a:cubicBezTo>
                <a:cubicBezTo>
                  <a:pt x="18891" y="9996"/>
                  <a:pt x="18702" y="10185"/>
                  <a:pt x="18579" y="10220"/>
                </a:cubicBezTo>
                <a:cubicBezTo>
                  <a:pt x="18538" y="10228"/>
                  <a:pt x="18496" y="10236"/>
                  <a:pt x="18455" y="10244"/>
                </a:cubicBezTo>
                <a:cubicBezTo>
                  <a:pt x="18560" y="10216"/>
                  <a:pt x="18778" y="10318"/>
                  <a:pt x="18628" y="10344"/>
                </a:cubicBezTo>
                <a:cubicBezTo>
                  <a:pt x="18489" y="10369"/>
                  <a:pt x="18375" y="10296"/>
                  <a:pt x="18306" y="10220"/>
                </a:cubicBezTo>
              </a:path>
              <a:path w="3896" h="944">
                <a:moveTo>
                  <a:pt x="19050" y="9847"/>
                </a:moveTo>
                <a:cubicBezTo>
                  <a:pt x="19063" y="10030"/>
                  <a:pt x="18952" y="10162"/>
                  <a:pt x="18901" y="10344"/>
                </a:cubicBezTo>
                <a:cubicBezTo>
                  <a:pt x="18901" y="10360"/>
                  <a:pt x="18901" y="10377"/>
                  <a:pt x="18901" y="10393"/>
                </a:cubicBezTo>
                <a:cubicBezTo>
                  <a:pt x="19095" y="10415"/>
                  <a:pt x="19189" y="10408"/>
                  <a:pt x="19298" y="10244"/>
                </a:cubicBezTo>
                <a:cubicBezTo>
                  <a:pt x="19153" y="10324"/>
                  <a:pt x="19086" y="10335"/>
                  <a:pt x="19100" y="10492"/>
                </a:cubicBezTo>
              </a:path>
              <a:path w="3896" h="944">
                <a:moveTo>
                  <a:pt x="19472" y="9723"/>
                </a:moveTo>
                <a:cubicBezTo>
                  <a:pt x="19573" y="9984"/>
                  <a:pt x="19697" y="10298"/>
                  <a:pt x="19472" y="10542"/>
                </a:cubicBezTo>
                <a:cubicBezTo>
                  <a:pt x="19319" y="10629"/>
                  <a:pt x="19285" y="10657"/>
                  <a:pt x="1917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240" y="4589640"/>
            <a:ext cx="2421000" cy="1795320"/>
          </a:xfrm>
          <a:custGeom>
            <a:avLst/>
            <a:gdLst/>
            <a:ahLst/>
            <a:rect l="l" t="t" r="r" b="b"/>
            <a:pathLst>
              <a:path w="6723" h="4986">
                <a:moveTo>
                  <a:pt x="3795" y="12750"/>
                </a:moveTo>
                <a:lnTo>
                  <a:pt x="3795" y="12750"/>
                </a:lnTo>
              </a:path>
              <a:path w="6723" h="4986">
                <a:moveTo>
                  <a:pt x="1860" y="16545"/>
                </a:moveTo>
                <a:cubicBezTo>
                  <a:pt x="1885" y="16829"/>
                  <a:pt x="1773" y="17416"/>
                  <a:pt x="1935" y="17661"/>
                </a:cubicBezTo>
                <a:cubicBezTo>
                  <a:pt x="2036" y="17814"/>
                  <a:pt x="2327" y="17703"/>
                  <a:pt x="2456" y="17686"/>
                </a:cubicBezTo>
                <a:cubicBezTo>
                  <a:pt x="2754" y="17646"/>
                  <a:pt x="3072" y="17624"/>
                  <a:pt x="3373" y="17611"/>
                </a:cubicBezTo>
                <a:cubicBezTo>
                  <a:pt x="3803" y="17593"/>
                  <a:pt x="4233" y="17605"/>
                  <a:pt x="4663" y="17587"/>
                </a:cubicBezTo>
                <a:cubicBezTo>
                  <a:pt x="5268" y="17562"/>
                  <a:pt x="5868" y="17492"/>
                  <a:pt x="6474" y="17487"/>
                </a:cubicBezTo>
                <a:cubicBezTo>
                  <a:pt x="6996" y="17483"/>
                  <a:pt x="7516" y="17477"/>
                  <a:pt x="8037" y="17462"/>
                </a:cubicBezTo>
                <a:cubicBezTo>
                  <a:pt x="8215" y="17457"/>
                  <a:pt x="8382" y="17450"/>
                  <a:pt x="8558" y="17438"/>
                </a:cubicBezTo>
                <a:cubicBezTo>
                  <a:pt x="8478" y="17190"/>
                  <a:pt x="8530" y="17094"/>
                  <a:pt x="8533" y="16818"/>
                </a:cubicBezTo>
                <a:cubicBezTo>
                  <a:pt x="8534" y="16699"/>
                  <a:pt x="8526" y="16318"/>
                  <a:pt x="8409" y="16222"/>
                </a:cubicBezTo>
                <a:cubicBezTo>
                  <a:pt x="8331" y="16157"/>
                  <a:pt x="8123" y="16214"/>
                  <a:pt x="8037" y="16222"/>
                </a:cubicBezTo>
                <a:cubicBezTo>
                  <a:pt x="7896" y="16236"/>
                  <a:pt x="7755" y="16244"/>
                  <a:pt x="7615" y="16272"/>
                </a:cubicBezTo>
                <a:cubicBezTo>
                  <a:pt x="7317" y="16332"/>
                  <a:pt x="7022" y="16385"/>
                  <a:pt x="6722" y="16421"/>
                </a:cubicBezTo>
                <a:cubicBezTo>
                  <a:pt x="6506" y="16447"/>
                  <a:pt x="6296" y="16446"/>
                  <a:pt x="6077" y="16446"/>
                </a:cubicBezTo>
                <a:cubicBezTo>
                  <a:pt x="5877" y="16446"/>
                  <a:pt x="5683" y="16470"/>
                  <a:pt x="5482" y="16470"/>
                </a:cubicBezTo>
                <a:cubicBezTo>
                  <a:pt x="5116" y="16470"/>
                  <a:pt x="4754" y="16479"/>
                  <a:pt x="4390" y="16495"/>
                </a:cubicBezTo>
                <a:cubicBezTo>
                  <a:pt x="4182" y="16504"/>
                  <a:pt x="3977" y="16510"/>
                  <a:pt x="3770" y="16520"/>
                </a:cubicBezTo>
                <a:cubicBezTo>
                  <a:pt x="3603" y="16528"/>
                  <a:pt x="3442" y="16542"/>
                  <a:pt x="3274" y="16545"/>
                </a:cubicBezTo>
                <a:cubicBezTo>
                  <a:pt x="3098" y="16548"/>
                  <a:pt x="2927" y="16553"/>
                  <a:pt x="2753" y="16570"/>
                </a:cubicBezTo>
                <a:cubicBezTo>
                  <a:pt x="2629" y="16582"/>
                  <a:pt x="2505" y="16581"/>
                  <a:pt x="2381" y="16594"/>
                </a:cubicBezTo>
                <a:cubicBezTo>
                  <a:pt x="2259" y="16606"/>
                  <a:pt x="2131" y="16625"/>
                  <a:pt x="2009" y="16644"/>
                </a:cubicBezTo>
                <a:cubicBezTo>
                  <a:pt x="1947" y="16654"/>
                  <a:pt x="1888" y="16677"/>
                  <a:pt x="1836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7760" y="3724200"/>
            <a:ext cx="2643120" cy="696960"/>
          </a:xfrm>
          <a:custGeom>
            <a:avLst/>
            <a:gdLst/>
            <a:ahLst/>
            <a:rect l="l" t="t" r="r" b="b"/>
            <a:pathLst>
              <a:path w="7343" h="1935">
                <a:moveTo>
                  <a:pt x="14436" y="10666"/>
                </a:moveTo>
                <a:cubicBezTo>
                  <a:pt x="14336" y="10902"/>
                  <a:pt x="14252" y="11141"/>
                  <a:pt x="14163" y="11385"/>
                </a:cubicBezTo>
                <a:cubicBezTo>
                  <a:pt x="14104" y="11548"/>
                  <a:pt x="14032" y="11702"/>
                  <a:pt x="13965" y="11857"/>
                </a:cubicBezTo>
                <a:cubicBezTo>
                  <a:pt x="14384" y="11876"/>
                  <a:pt x="14806" y="11879"/>
                  <a:pt x="15230" y="11906"/>
                </a:cubicBezTo>
                <a:cubicBezTo>
                  <a:pt x="15759" y="11940"/>
                  <a:pt x="16270" y="12042"/>
                  <a:pt x="16793" y="12105"/>
                </a:cubicBezTo>
                <a:cubicBezTo>
                  <a:pt x="17258" y="12161"/>
                  <a:pt x="17738" y="12214"/>
                  <a:pt x="18207" y="12229"/>
                </a:cubicBezTo>
                <a:cubicBezTo>
                  <a:pt x="18645" y="12243"/>
                  <a:pt x="19083" y="12266"/>
                  <a:pt x="19521" y="12278"/>
                </a:cubicBezTo>
                <a:cubicBezTo>
                  <a:pt x="19650" y="12281"/>
                  <a:pt x="20262" y="12348"/>
                  <a:pt x="20365" y="12254"/>
                </a:cubicBezTo>
                <a:cubicBezTo>
                  <a:pt x="20436" y="12189"/>
                  <a:pt x="20442" y="12097"/>
                  <a:pt x="20513" y="12005"/>
                </a:cubicBezTo>
                <a:cubicBezTo>
                  <a:pt x="20733" y="11721"/>
                  <a:pt x="20903" y="11459"/>
                  <a:pt x="21059" y="11137"/>
                </a:cubicBezTo>
                <a:cubicBezTo>
                  <a:pt x="21127" y="10998"/>
                  <a:pt x="21202" y="10876"/>
                  <a:pt x="21258" y="10740"/>
                </a:cubicBezTo>
                <a:cubicBezTo>
                  <a:pt x="21313" y="10608"/>
                  <a:pt x="21313" y="10591"/>
                  <a:pt x="21208" y="10517"/>
                </a:cubicBezTo>
                <a:cubicBezTo>
                  <a:pt x="21114" y="10451"/>
                  <a:pt x="21033" y="10464"/>
                  <a:pt x="20910" y="10468"/>
                </a:cubicBezTo>
                <a:cubicBezTo>
                  <a:pt x="20776" y="10472"/>
                  <a:pt x="20644" y="10510"/>
                  <a:pt x="20513" y="10542"/>
                </a:cubicBezTo>
                <a:cubicBezTo>
                  <a:pt x="20384" y="10574"/>
                  <a:pt x="20274" y="10607"/>
                  <a:pt x="20141" y="10616"/>
                </a:cubicBezTo>
                <a:cubicBezTo>
                  <a:pt x="19788" y="10639"/>
                  <a:pt x="19425" y="10602"/>
                  <a:pt x="19075" y="10567"/>
                </a:cubicBezTo>
                <a:cubicBezTo>
                  <a:pt x="18619" y="10522"/>
                  <a:pt x="18168" y="10432"/>
                  <a:pt x="17711" y="10393"/>
                </a:cubicBezTo>
                <a:cubicBezTo>
                  <a:pt x="17313" y="10359"/>
                  <a:pt x="16920" y="10344"/>
                  <a:pt x="16520" y="10344"/>
                </a:cubicBezTo>
                <a:cubicBezTo>
                  <a:pt x="16212" y="10344"/>
                  <a:pt x="15909" y="10379"/>
                  <a:pt x="15602" y="10393"/>
                </a:cubicBezTo>
                <a:cubicBezTo>
                  <a:pt x="15477" y="10399"/>
                  <a:pt x="15366" y="10394"/>
                  <a:pt x="15255" y="10418"/>
                </a:cubicBezTo>
                <a:cubicBezTo>
                  <a:pt x="15173" y="10436"/>
                  <a:pt x="15116" y="10466"/>
                  <a:pt x="15032" y="10492"/>
                </a:cubicBezTo>
                <a:cubicBezTo>
                  <a:pt x="14947" y="10519"/>
                  <a:pt x="14847" y="10525"/>
                  <a:pt x="14759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0040" y="3875040"/>
            <a:ext cx="455760" cy="23328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4684" y="10914"/>
                </a:moveTo>
                <a:cubicBezTo>
                  <a:pt x="14656" y="11068"/>
                  <a:pt x="14510" y="11244"/>
                  <a:pt x="14387" y="11385"/>
                </a:cubicBezTo>
                <a:cubicBezTo>
                  <a:pt x="14515" y="11192"/>
                  <a:pt x="14657" y="11017"/>
                  <a:pt x="14833" y="10864"/>
                </a:cubicBezTo>
                <a:cubicBezTo>
                  <a:pt x="14927" y="10794"/>
                  <a:pt x="14953" y="10771"/>
                  <a:pt x="15032" y="10765"/>
                </a:cubicBezTo>
                <a:cubicBezTo>
                  <a:pt x="15042" y="11022"/>
                  <a:pt x="14974" y="11179"/>
                  <a:pt x="14858" y="11410"/>
                </a:cubicBezTo>
              </a:path>
              <a:path w="1266" h="646">
                <a:moveTo>
                  <a:pt x="14610" y="11063"/>
                </a:moveTo>
                <a:cubicBezTo>
                  <a:pt x="14752" y="11056"/>
                  <a:pt x="14890" y="11044"/>
                  <a:pt x="15032" y="11038"/>
                </a:cubicBezTo>
              </a:path>
              <a:path w="1266" h="646">
                <a:moveTo>
                  <a:pt x="15404" y="11088"/>
                </a:moveTo>
                <a:cubicBezTo>
                  <a:pt x="15529" y="11088"/>
                  <a:pt x="15571" y="11088"/>
                  <a:pt x="15652" y="11112"/>
                </a:cubicBezTo>
              </a:path>
              <a:path w="1266" h="646">
                <a:moveTo>
                  <a:pt x="15255" y="11261"/>
                </a:moveTo>
                <a:cubicBezTo>
                  <a:pt x="15404" y="11282"/>
                  <a:pt x="15436" y="11291"/>
                  <a:pt x="15528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13280" y="3857760"/>
            <a:ext cx="1643040" cy="322200"/>
          </a:xfrm>
          <a:custGeom>
            <a:avLst/>
            <a:gdLst/>
            <a:ahLst/>
            <a:rect l="l" t="t" r="r" b="b"/>
            <a:pathLst>
              <a:path w="4565" h="894">
                <a:moveTo>
                  <a:pt x="16446" y="10889"/>
                </a:moveTo>
                <a:cubicBezTo>
                  <a:pt x="16353" y="11096"/>
                  <a:pt x="16263" y="11290"/>
                  <a:pt x="16148" y="11485"/>
                </a:cubicBezTo>
              </a:path>
              <a:path w="4565" h="894">
                <a:moveTo>
                  <a:pt x="16793" y="10939"/>
                </a:moveTo>
                <a:cubicBezTo>
                  <a:pt x="16711" y="11121"/>
                  <a:pt x="16583" y="11311"/>
                  <a:pt x="16520" y="11485"/>
                </a:cubicBezTo>
              </a:path>
              <a:path w="4565" h="894">
                <a:moveTo>
                  <a:pt x="17090" y="10964"/>
                </a:moveTo>
                <a:cubicBezTo>
                  <a:pt x="17094" y="10963"/>
                  <a:pt x="17386" y="10856"/>
                  <a:pt x="17314" y="10988"/>
                </a:cubicBezTo>
                <a:cubicBezTo>
                  <a:pt x="17233" y="11069"/>
                  <a:pt x="17199" y="11098"/>
                  <a:pt x="17115" y="11112"/>
                </a:cubicBezTo>
                <a:cubicBezTo>
                  <a:pt x="17099" y="11112"/>
                  <a:pt x="17082" y="11112"/>
                  <a:pt x="17066" y="11112"/>
                </a:cubicBezTo>
                <a:cubicBezTo>
                  <a:pt x="17226" y="11098"/>
                  <a:pt x="17402" y="11239"/>
                  <a:pt x="17214" y="11410"/>
                </a:cubicBezTo>
                <a:cubicBezTo>
                  <a:pt x="17135" y="11482"/>
                  <a:pt x="16732" y="11483"/>
                  <a:pt x="16867" y="11385"/>
                </a:cubicBezTo>
                <a:cubicBezTo>
                  <a:pt x="16918" y="11348"/>
                  <a:pt x="16966" y="11477"/>
                  <a:pt x="16991" y="11509"/>
                </a:cubicBezTo>
              </a:path>
              <a:path w="4565" h="894">
                <a:moveTo>
                  <a:pt x="17438" y="11410"/>
                </a:moveTo>
                <a:cubicBezTo>
                  <a:pt x="17438" y="11515"/>
                  <a:pt x="17414" y="11533"/>
                  <a:pt x="17487" y="11435"/>
                </a:cubicBezTo>
              </a:path>
              <a:path w="4565" h="894">
                <a:moveTo>
                  <a:pt x="18058" y="11088"/>
                </a:moveTo>
                <a:cubicBezTo>
                  <a:pt x="17922" y="11088"/>
                  <a:pt x="17670" y="11199"/>
                  <a:pt x="17735" y="11410"/>
                </a:cubicBezTo>
                <a:cubicBezTo>
                  <a:pt x="17768" y="11443"/>
                  <a:pt x="17802" y="11476"/>
                  <a:pt x="17835" y="11509"/>
                </a:cubicBezTo>
                <a:cubicBezTo>
                  <a:pt x="18093" y="11447"/>
                  <a:pt x="18215" y="11310"/>
                  <a:pt x="18132" y="11013"/>
                </a:cubicBezTo>
                <a:cubicBezTo>
                  <a:pt x="18116" y="10997"/>
                  <a:pt x="18099" y="10980"/>
                  <a:pt x="18083" y="10964"/>
                </a:cubicBezTo>
              </a:path>
              <a:path w="4565" h="894">
                <a:moveTo>
                  <a:pt x="18455" y="10889"/>
                </a:moveTo>
                <a:cubicBezTo>
                  <a:pt x="18446" y="10981"/>
                  <a:pt x="18418" y="11070"/>
                  <a:pt x="18405" y="11162"/>
                </a:cubicBezTo>
                <a:cubicBezTo>
                  <a:pt x="18537" y="11189"/>
                  <a:pt x="18586" y="11196"/>
                  <a:pt x="18678" y="11162"/>
                </a:cubicBezTo>
              </a:path>
              <a:path w="4565" h="894">
                <a:moveTo>
                  <a:pt x="18827" y="10889"/>
                </a:moveTo>
                <a:cubicBezTo>
                  <a:pt x="18692" y="11099"/>
                  <a:pt x="18554" y="11306"/>
                  <a:pt x="18455" y="11534"/>
                </a:cubicBezTo>
              </a:path>
              <a:path w="4565" h="894">
                <a:moveTo>
                  <a:pt x="19149" y="11286"/>
                </a:moveTo>
                <a:cubicBezTo>
                  <a:pt x="19186" y="11333"/>
                  <a:pt x="19192" y="11351"/>
                  <a:pt x="19199" y="11410"/>
                </a:cubicBezTo>
                <a:cubicBezTo>
                  <a:pt x="19217" y="11223"/>
                  <a:pt x="19122" y="11015"/>
                  <a:pt x="18976" y="11336"/>
                </a:cubicBezTo>
                <a:cubicBezTo>
                  <a:pt x="18805" y="11713"/>
                  <a:pt x="19190" y="11581"/>
                  <a:pt x="19348" y="11460"/>
                </a:cubicBezTo>
                <a:cubicBezTo>
                  <a:pt x="19557" y="11300"/>
                  <a:pt x="19615" y="11090"/>
                  <a:pt x="19496" y="11460"/>
                </a:cubicBezTo>
                <a:cubicBezTo>
                  <a:pt x="19488" y="11485"/>
                  <a:pt x="19480" y="11509"/>
                  <a:pt x="19472" y="11534"/>
                </a:cubicBezTo>
                <a:cubicBezTo>
                  <a:pt x="19485" y="11505"/>
                  <a:pt x="19696" y="11128"/>
                  <a:pt x="19745" y="11212"/>
                </a:cubicBezTo>
                <a:cubicBezTo>
                  <a:pt x="19789" y="11368"/>
                  <a:pt x="19809" y="11408"/>
                  <a:pt x="19769" y="11509"/>
                </a:cubicBezTo>
                <a:cubicBezTo>
                  <a:pt x="19802" y="11455"/>
                  <a:pt x="20056" y="11061"/>
                  <a:pt x="20067" y="11286"/>
                </a:cubicBezTo>
                <a:cubicBezTo>
                  <a:pt x="20045" y="11438"/>
                  <a:pt x="20046" y="11477"/>
                  <a:pt x="19993" y="11559"/>
                </a:cubicBezTo>
              </a:path>
              <a:path w="4565" h="894">
                <a:moveTo>
                  <a:pt x="20439" y="10740"/>
                </a:moveTo>
                <a:cubicBezTo>
                  <a:pt x="20546" y="10714"/>
                  <a:pt x="20587" y="10708"/>
                  <a:pt x="20662" y="10740"/>
                </a:cubicBezTo>
                <a:cubicBezTo>
                  <a:pt x="20699" y="10908"/>
                  <a:pt x="20652" y="11152"/>
                  <a:pt x="20389" y="11063"/>
                </a:cubicBezTo>
                <a:cubicBezTo>
                  <a:pt x="20250" y="11016"/>
                  <a:pt x="20335" y="10919"/>
                  <a:pt x="20513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960" y="4857840"/>
            <a:ext cx="838080" cy="312480"/>
          </a:xfrm>
          <a:custGeom>
            <a:avLst/>
            <a:gdLst/>
            <a:ahLst/>
            <a:rect l="l" t="t" r="r" b="b"/>
            <a:pathLst>
              <a:path w="2332" h="869">
                <a:moveTo>
                  <a:pt x="2381" y="13667"/>
                </a:moveTo>
                <a:cubicBezTo>
                  <a:pt x="2321" y="13890"/>
                  <a:pt x="2242" y="14061"/>
                  <a:pt x="2133" y="14263"/>
                </a:cubicBezTo>
                <a:cubicBezTo>
                  <a:pt x="2021" y="14492"/>
                  <a:pt x="2407" y="13745"/>
                  <a:pt x="2480" y="13643"/>
                </a:cubicBezTo>
                <a:cubicBezTo>
                  <a:pt x="2568" y="13555"/>
                  <a:pt x="2587" y="13512"/>
                  <a:pt x="2654" y="13593"/>
                </a:cubicBezTo>
                <a:cubicBezTo>
                  <a:pt x="2662" y="13853"/>
                  <a:pt x="2629" y="14059"/>
                  <a:pt x="2555" y="14312"/>
                </a:cubicBezTo>
              </a:path>
              <a:path w="2332" h="869">
                <a:moveTo>
                  <a:pt x="2307" y="14039"/>
                </a:moveTo>
                <a:cubicBezTo>
                  <a:pt x="2433" y="14002"/>
                  <a:pt x="2550" y="13968"/>
                  <a:pt x="2679" y="13940"/>
                </a:cubicBezTo>
              </a:path>
              <a:path w="2332" h="869">
                <a:moveTo>
                  <a:pt x="2977" y="13866"/>
                </a:moveTo>
                <a:cubicBezTo>
                  <a:pt x="3070" y="13857"/>
                  <a:pt x="3157" y="13838"/>
                  <a:pt x="3249" y="13816"/>
                </a:cubicBezTo>
              </a:path>
              <a:path w="2332" h="869">
                <a:moveTo>
                  <a:pt x="2853" y="14114"/>
                </a:moveTo>
                <a:cubicBezTo>
                  <a:pt x="2968" y="14106"/>
                  <a:pt x="3076" y="14096"/>
                  <a:pt x="3175" y="14039"/>
                </a:cubicBezTo>
              </a:path>
              <a:path w="2332" h="869">
                <a:moveTo>
                  <a:pt x="3870" y="13692"/>
                </a:moveTo>
                <a:cubicBezTo>
                  <a:pt x="3829" y="13759"/>
                  <a:pt x="3698" y="14043"/>
                  <a:pt x="3621" y="14188"/>
                </a:cubicBezTo>
              </a:path>
              <a:path w="2332" h="869">
                <a:moveTo>
                  <a:pt x="4167" y="13767"/>
                </a:moveTo>
                <a:cubicBezTo>
                  <a:pt x="4135" y="13946"/>
                  <a:pt x="4118" y="14044"/>
                  <a:pt x="4018" y="14188"/>
                </a:cubicBezTo>
              </a:path>
              <a:path w="2332" h="869">
                <a:moveTo>
                  <a:pt x="3547" y="13791"/>
                </a:moveTo>
                <a:cubicBezTo>
                  <a:pt x="3599" y="13670"/>
                  <a:pt x="3671" y="13471"/>
                  <a:pt x="3845" y="13568"/>
                </a:cubicBezTo>
                <a:cubicBezTo>
                  <a:pt x="3993" y="13650"/>
                  <a:pt x="4097" y="13830"/>
                  <a:pt x="4291" y="13692"/>
                </a:cubicBezTo>
                <a:cubicBezTo>
                  <a:pt x="4363" y="13597"/>
                  <a:pt x="4386" y="13568"/>
                  <a:pt x="4415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93960" y="4786200"/>
            <a:ext cx="392040" cy="304920"/>
          </a:xfrm>
          <a:custGeom>
            <a:avLst/>
            <a:gdLst/>
            <a:ahLst/>
            <a:rect l="l" t="t" r="r" b="b"/>
            <a:pathLst>
              <a:path w="1092" h="845">
                <a:moveTo>
                  <a:pt x="5308" y="13990"/>
                </a:moveTo>
                <a:cubicBezTo>
                  <a:pt x="5272" y="14080"/>
                  <a:pt x="5256" y="14086"/>
                  <a:pt x="5259" y="14139"/>
                </a:cubicBezTo>
                <a:cubicBezTo>
                  <a:pt x="5259" y="13997"/>
                  <a:pt x="5254" y="13854"/>
                  <a:pt x="5358" y="13742"/>
                </a:cubicBezTo>
                <a:cubicBezTo>
                  <a:pt x="5439" y="13715"/>
                  <a:pt x="5470" y="13706"/>
                  <a:pt x="5531" y="13717"/>
                </a:cubicBezTo>
              </a:path>
              <a:path w="1092" h="845">
                <a:moveTo>
                  <a:pt x="5978" y="13395"/>
                </a:moveTo>
                <a:cubicBezTo>
                  <a:pt x="6051" y="13321"/>
                  <a:pt x="6075" y="13296"/>
                  <a:pt x="6152" y="13295"/>
                </a:cubicBezTo>
                <a:cubicBezTo>
                  <a:pt x="6242" y="13476"/>
                  <a:pt x="6226" y="13670"/>
                  <a:pt x="5978" y="13742"/>
                </a:cubicBezTo>
                <a:cubicBezTo>
                  <a:pt x="5943" y="13707"/>
                  <a:pt x="5930" y="13685"/>
                  <a:pt x="5928" y="13643"/>
                </a:cubicBezTo>
                <a:cubicBezTo>
                  <a:pt x="6125" y="13608"/>
                  <a:pt x="6164" y="13655"/>
                  <a:pt x="6350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6160" y="5214960"/>
            <a:ext cx="1028880" cy="339840"/>
          </a:xfrm>
          <a:custGeom>
            <a:avLst/>
            <a:gdLst/>
            <a:ahLst/>
            <a:rect l="l" t="t" r="r" b="b"/>
            <a:pathLst>
              <a:path w="2854" h="944">
                <a:moveTo>
                  <a:pt x="2406" y="14908"/>
                </a:moveTo>
                <a:cubicBezTo>
                  <a:pt x="2368" y="15096"/>
                  <a:pt x="2256" y="15263"/>
                  <a:pt x="2158" y="15429"/>
                </a:cubicBezTo>
                <a:cubicBezTo>
                  <a:pt x="2242" y="15112"/>
                  <a:pt x="2421" y="14890"/>
                  <a:pt x="2654" y="14660"/>
                </a:cubicBezTo>
                <a:cubicBezTo>
                  <a:pt x="2687" y="14635"/>
                  <a:pt x="2720" y="14610"/>
                  <a:pt x="2753" y="14585"/>
                </a:cubicBezTo>
                <a:cubicBezTo>
                  <a:pt x="2827" y="14843"/>
                  <a:pt x="2802" y="15078"/>
                  <a:pt x="2679" y="15329"/>
                </a:cubicBezTo>
                <a:cubicBezTo>
                  <a:pt x="2662" y="15346"/>
                  <a:pt x="2646" y="15362"/>
                  <a:pt x="2629" y="15379"/>
                </a:cubicBezTo>
              </a:path>
              <a:path w="2854" h="944">
                <a:moveTo>
                  <a:pt x="2208" y="15131"/>
                </a:moveTo>
                <a:cubicBezTo>
                  <a:pt x="2345" y="15108"/>
                  <a:pt x="2492" y="15065"/>
                  <a:pt x="2629" y="15032"/>
                </a:cubicBezTo>
              </a:path>
              <a:path w="2854" h="944">
                <a:moveTo>
                  <a:pt x="3125" y="14932"/>
                </a:moveTo>
                <a:cubicBezTo>
                  <a:pt x="3217" y="14932"/>
                  <a:pt x="3259" y="14929"/>
                  <a:pt x="3324" y="14908"/>
                </a:cubicBezTo>
              </a:path>
              <a:path w="2854" h="944">
                <a:moveTo>
                  <a:pt x="3051" y="15106"/>
                </a:moveTo>
                <a:cubicBezTo>
                  <a:pt x="3208" y="15080"/>
                  <a:pt x="3265" y="15070"/>
                  <a:pt x="3373" y="15056"/>
                </a:cubicBezTo>
              </a:path>
              <a:path w="2854" h="944">
                <a:moveTo>
                  <a:pt x="3746" y="14759"/>
                </a:moveTo>
                <a:cubicBezTo>
                  <a:pt x="3727" y="14795"/>
                  <a:pt x="3884" y="14700"/>
                  <a:pt x="3969" y="14684"/>
                </a:cubicBezTo>
                <a:cubicBezTo>
                  <a:pt x="3934" y="14847"/>
                  <a:pt x="3857" y="14900"/>
                  <a:pt x="3870" y="15032"/>
                </a:cubicBezTo>
                <a:cubicBezTo>
                  <a:pt x="3888" y="15222"/>
                  <a:pt x="3718" y="15318"/>
                  <a:pt x="3547" y="15255"/>
                </a:cubicBezTo>
                <a:cubicBezTo>
                  <a:pt x="3501" y="15209"/>
                  <a:pt x="3487" y="15197"/>
                  <a:pt x="3473" y="15156"/>
                </a:cubicBezTo>
              </a:path>
              <a:path w="2854" h="944">
                <a:moveTo>
                  <a:pt x="4068" y="15205"/>
                </a:moveTo>
                <a:lnTo>
                  <a:pt x="4068" y="15205"/>
                </a:lnTo>
              </a:path>
              <a:path w="2854" h="944">
                <a:moveTo>
                  <a:pt x="4564" y="14684"/>
                </a:moveTo>
                <a:cubicBezTo>
                  <a:pt x="4515" y="14711"/>
                  <a:pt x="4390" y="15010"/>
                  <a:pt x="4341" y="15131"/>
                </a:cubicBezTo>
                <a:cubicBezTo>
                  <a:pt x="4333" y="15156"/>
                  <a:pt x="4324" y="15180"/>
                  <a:pt x="4316" y="15205"/>
                </a:cubicBezTo>
              </a:path>
              <a:path w="2854" h="944">
                <a:moveTo>
                  <a:pt x="4738" y="14734"/>
                </a:moveTo>
                <a:cubicBezTo>
                  <a:pt x="4694" y="14799"/>
                  <a:pt x="4683" y="14813"/>
                  <a:pt x="4663" y="14858"/>
                </a:cubicBezTo>
                <a:cubicBezTo>
                  <a:pt x="4773" y="14887"/>
                  <a:pt x="4872" y="14902"/>
                  <a:pt x="4986" y="14908"/>
                </a:cubicBezTo>
              </a:path>
              <a:path w="2854" h="944">
                <a:moveTo>
                  <a:pt x="5011" y="14486"/>
                </a:moveTo>
                <a:cubicBezTo>
                  <a:pt x="4980" y="14703"/>
                  <a:pt x="4880" y="14922"/>
                  <a:pt x="4812" y="15131"/>
                </a:cubicBezTo>
                <a:cubicBezTo>
                  <a:pt x="4776" y="15238"/>
                  <a:pt x="4759" y="15243"/>
                  <a:pt x="4762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9880" y="5045040"/>
            <a:ext cx="660240" cy="500040"/>
          </a:xfrm>
          <a:custGeom>
            <a:avLst/>
            <a:gdLst/>
            <a:ahLst/>
            <a:rect l="l" t="t" r="r" b="b"/>
            <a:pathLst>
              <a:path w="1837" h="1390">
                <a:moveTo>
                  <a:pt x="5928" y="14387"/>
                </a:moveTo>
                <a:cubicBezTo>
                  <a:pt x="5742" y="14620"/>
                  <a:pt x="5571" y="14866"/>
                  <a:pt x="5581" y="15180"/>
                </a:cubicBezTo>
                <a:cubicBezTo>
                  <a:pt x="5619" y="15273"/>
                  <a:pt x="5612" y="15291"/>
                  <a:pt x="5655" y="15329"/>
                </a:cubicBezTo>
              </a:path>
              <a:path w="1837" h="1390">
                <a:moveTo>
                  <a:pt x="6152" y="14734"/>
                </a:moveTo>
                <a:cubicBezTo>
                  <a:pt x="6152" y="14701"/>
                  <a:pt x="6152" y="14668"/>
                  <a:pt x="6152" y="14635"/>
                </a:cubicBezTo>
                <a:cubicBezTo>
                  <a:pt x="6041" y="14884"/>
                  <a:pt x="6032" y="14781"/>
                  <a:pt x="6251" y="14808"/>
                </a:cubicBezTo>
                <a:cubicBezTo>
                  <a:pt x="6474" y="14835"/>
                  <a:pt x="6274" y="15087"/>
                  <a:pt x="6176" y="15131"/>
                </a:cubicBezTo>
                <a:cubicBezTo>
                  <a:pt x="6055" y="15185"/>
                  <a:pt x="5878" y="15064"/>
                  <a:pt x="5804" y="15106"/>
                </a:cubicBezTo>
                <a:cubicBezTo>
                  <a:pt x="5720" y="15154"/>
                  <a:pt x="5957" y="15174"/>
                  <a:pt x="6052" y="15156"/>
                </a:cubicBezTo>
              </a:path>
              <a:path w="1837" h="1390">
                <a:moveTo>
                  <a:pt x="6251" y="14560"/>
                </a:moveTo>
                <a:cubicBezTo>
                  <a:pt x="6358" y="14560"/>
                  <a:pt x="6466" y="14560"/>
                  <a:pt x="6573" y="14560"/>
                </a:cubicBezTo>
              </a:path>
              <a:path w="1837" h="1390">
                <a:moveTo>
                  <a:pt x="6945" y="14312"/>
                </a:moveTo>
                <a:cubicBezTo>
                  <a:pt x="6946" y="14396"/>
                  <a:pt x="6946" y="14348"/>
                  <a:pt x="7045" y="14337"/>
                </a:cubicBezTo>
                <a:cubicBezTo>
                  <a:pt x="7016" y="14552"/>
                  <a:pt x="6937" y="14683"/>
                  <a:pt x="6697" y="14709"/>
                </a:cubicBezTo>
                <a:cubicBezTo>
                  <a:pt x="6689" y="14701"/>
                  <a:pt x="6680" y="14692"/>
                  <a:pt x="6672" y="14684"/>
                </a:cubicBezTo>
                <a:cubicBezTo>
                  <a:pt x="6749" y="14556"/>
                  <a:pt x="6834" y="14560"/>
                  <a:pt x="6945" y="14684"/>
                </a:cubicBezTo>
                <a:cubicBezTo>
                  <a:pt x="6953" y="14701"/>
                  <a:pt x="6962" y="14717"/>
                  <a:pt x="6970" y="14734"/>
                </a:cubicBezTo>
              </a:path>
              <a:path w="1837" h="1390">
                <a:moveTo>
                  <a:pt x="7218" y="14015"/>
                </a:moveTo>
                <a:cubicBezTo>
                  <a:pt x="7321" y="14237"/>
                  <a:pt x="7441" y="14480"/>
                  <a:pt x="7417" y="14734"/>
                </a:cubicBezTo>
                <a:cubicBezTo>
                  <a:pt x="7389" y="15037"/>
                  <a:pt x="7227" y="15213"/>
                  <a:pt x="7020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27240" y="5133960"/>
            <a:ext cx="1170000" cy="241200"/>
          </a:xfrm>
          <a:custGeom>
            <a:avLst/>
            <a:gdLst/>
            <a:ahLst/>
            <a:rect l="l" t="t" r="r" b="b"/>
            <a:pathLst>
              <a:path w="3250" h="670">
                <a:moveTo>
                  <a:pt x="8706" y="14486"/>
                </a:moveTo>
                <a:cubicBezTo>
                  <a:pt x="8642" y="14557"/>
                  <a:pt x="8587" y="14630"/>
                  <a:pt x="8533" y="14709"/>
                </a:cubicBezTo>
                <a:cubicBezTo>
                  <a:pt x="8712" y="14670"/>
                  <a:pt x="8665" y="14678"/>
                  <a:pt x="8830" y="14709"/>
                </a:cubicBezTo>
                <a:cubicBezTo>
                  <a:pt x="8791" y="14880"/>
                  <a:pt x="8684" y="14974"/>
                  <a:pt x="8483" y="14932"/>
                </a:cubicBezTo>
                <a:cubicBezTo>
                  <a:pt x="8458" y="14916"/>
                  <a:pt x="8434" y="14899"/>
                  <a:pt x="8409" y="14883"/>
                </a:cubicBezTo>
              </a:path>
              <a:path w="3250" h="670">
                <a:moveTo>
                  <a:pt x="8781" y="14362"/>
                </a:moveTo>
                <a:cubicBezTo>
                  <a:pt x="8905" y="14362"/>
                  <a:pt x="8946" y="14362"/>
                  <a:pt x="9029" y="14362"/>
                </a:cubicBezTo>
              </a:path>
              <a:path w="3250" h="670">
                <a:moveTo>
                  <a:pt x="9153" y="14362"/>
                </a:moveTo>
                <a:cubicBezTo>
                  <a:pt x="9122" y="14487"/>
                  <a:pt x="9196" y="14631"/>
                  <a:pt x="9252" y="14759"/>
                </a:cubicBezTo>
                <a:cubicBezTo>
                  <a:pt x="9260" y="14775"/>
                  <a:pt x="9269" y="14792"/>
                  <a:pt x="9277" y="14808"/>
                </a:cubicBezTo>
              </a:path>
              <a:path w="3250" h="670">
                <a:moveTo>
                  <a:pt x="9203" y="14412"/>
                </a:moveTo>
                <a:cubicBezTo>
                  <a:pt x="9138" y="14519"/>
                  <a:pt x="9078" y="14620"/>
                  <a:pt x="9029" y="14734"/>
                </a:cubicBezTo>
              </a:path>
              <a:path w="3250" h="670">
                <a:moveTo>
                  <a:pt x="9599" y="14312"/>
                </a:moveTo>
                <a:cubicBezTo>
                  <a:pt x="9599" y="14399"/>
                  <a:pt x="9594" y="14434"/>
                  <a:pt x="9550" y="14486"/>
                </a:cubicBezTo>
                <a:cubicBezTo>
                  <a:pt x="9597" y="14513"/>
                  <a:pt x="9843" y="14564"/>
                  <a:pt x="9748" y="14684"/>
                </a:cubicBezTo>
                <a:cubicBezTo>
                  <a:pt x="9627" y="14837"/>
                  <a:pt x="9459" y="14827"/>
                  <a:pt x="9327" y="14734"/>
                </a:cubicBezTo>
              </a:path>
              <a:path w="3250" h="670">
                <a:moveTo>
                  <a:pt x="9550" y="14312"/>
                </a:moveTo>
                <a:cubicBezTo>
                  <a:pt x="9676" y="14312"/>
                  <a:pt x="9798" y="14284"/>
                  <a:pt x="9922" y="14263"/>
                </a:cubicBezTo>
              </a:path>
              <a:path w="3250" h="670">
                <a:moveTo>
                  <a:pt x="10120" y="14585"/>
                </a:moveTo>
                <a:cubicBezTo>
                  <a:pt x="10292" y="14544"/>
                  <a:pt x="10391" y="14537"/>
                  <a:pt x="10567" y="14560"/>
                </a:cubicBezTo>
              </a:path>
              <a:path w="3250" h="670">
                <a:moveTo>
                  <a:pt x="10244" y="14759"/>
                </a:moveTo>
                <a:cubicBezTo>
                  <a:pt x="10302" y="14742"/>
                  <a:pt x="10360" y="14726"/>
                  <a:pt x="10418" y="14709"/>
                </a:cubicBezTo>
              </a:path>
              <a:path w="3250" h="670">
                <a:moveTo>
                  <a:pt x="11088" y="14387"/>
                </a:moveTo>
                <a:cubicBezTo>
                  <a:pt x="11009" y="14439"/>
                  <a:pt x="10980" y="14459"/>
                  <a:pt x="10939" y="14511"/>
                </a:cubicBezTo>
                <a:cubicBezTo>
                  <a:pt x="11140" y="14402"/>
                  <a:pt x="11362" y="14416"/>
                  <a:pt x="11137" y="14709"/>
                </a:cubicBezTo>
                <a:cubicBezTo>
                  <a:pt x="10986" y="14905"/>
                  <a:pt x="10862" y="14888"/>
                  <a:pt x="10666" y="14833"/>
                </a:cubicBezTo>
                <a:cubicBezTo>
                  <a:pt x="10837" y="14707"/>
                  <a:pt x="10926" y="14651"/>
                  <a:pt x="11038" y="14833"/>
                </a:cubicBezTo>
              </a:path>
              <a:path w="3250" h="670">
                <a:moveTo>
                  <a:pt x="11609" y="14312"/>
                </a:moveTo>
                <a:cubicBezTo>
                  <a:pt x="11436" y="14355"/>
                  <a:pt x="11380" y="14416"/>
                  <a:pt x="11261" y="14560"/>
                </a:cubicBezTo>
                <a:cubicBezTo>
                  <a:pt x="11347" y="14570"/>
                  <a:pt x="11631" y="14478"/>
                  <a:pt x="11658" y="14684"/>
                </a:cubicBezTo>
                <a:cubicBezTo>
                  <a:pt x="11686" y="14896"/>
                  <a:pt x="11405" y="14889"/>
                  <a:pt x="11286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73800" y="4803840"/>
            <a:ext cx="1509480" cy="322200"/>
          </a:xfrm>
          <a:custGeom>
            <a:avLst/>
            <a:gdLst/>
            <a:ahLst/>
            <a:rect l="l" t="t" r="r" b="b"/>
            <a:pathLst>
              <a:path w="4193" h="894">
                <a:moveTo>
                  <a:pt x="15404" y="13816"/>
                </a:moveTo>
                <a:cubicBezTo>
                  <a:pt x="15404" y="13757"/>
                  <a:pt x="15407" y="13731"/>
                  <a:pt x="15429" y="13692"/>
                </a:cubicBezTo>
                <a:cubicBezTo>
                  <a:pt x="15375" y="13843"/>
                  <a:pt x="15316" y="13991"/>
                  <a:pt x="15255" y="14139"/>
                </a:cubicBezTo>
                <a:cubicBezTo>
                  <a:pt x="15051" y="14204"/>
                  <a:pt x="15424" y="13679"/>
                  <a:pt x="15478" y="13618"/>
                </a:cubicBezTo>
                <a:cubicBezTo>
                  <a:pt x="15660" y="13456"/>
                  <a:pt x="15683" y="13410"/>
                  <a:pt x="15825" y="13370"/>
                </a:cubicBezTo>
                <a:cubicBezTo>
                  <a:pt x="15836" y="13604"/>
                  <a:pt x="15802" y="13900"/>
                  <a:pt x="15627" y="14089"/>
                </a:cubicBezTo>
                <a:cubicBezTo>
                  <a:pt x="15610" y="14089"/>
                  <a:pt x="15594" y="14089"/>
                  <a:pt x="15577" y="14089"/>
                </a:cubicBezTo>
              </a:path>
              <a:path w="4193" h="894">
                <a:moveTo>
                  <a:pt x="15280" y="13841"/>
                </a:moveTo>
                <a:cubicBezTo>
                  <a:pt x="15486" y="13815"/>
                  <a:pt x="15560" y="13806"/>
                  <a:pt x="15701" y="13791"/>
                </a:cubicBezTo>
              </a:path>
              <a:path w="4193" h="894">
                <a:moveTo>
                  <a:pt x="16148" y="13767"/>
                </a:moveTo>
                <a:cubicBezTo>
                  <a:pt x="16306" y="13767"/>
                  <a:pt x="16364" y="13766"/>
                  <a:pt x="16470" y="13742"/>
                </a:cubicBezTo>
              </a:path>
              <a:path w="4193" h="894">
                <a:moveTo>
                  <a:pt x="16024" y="13965"/>
                </a:moveTo>
                <a:cubicBezTo>
                  <a:pt x="16205" y="13942"/>
                  <a:pt x="16254" y="13934"/>
                  <a:pt x="16371" y="13940"/>
                </a:cubicBezTo>
              </a:path>
              <a:path w="4193" h="894">
                <a:moveTo>
                  <a:pt x="17314" y="13692"/>
                </a:moveTo>
                <a:cubicBezTo>
                  <a:pt x="17376" y="13739"/>
                  <a:pt x="17180" y="14044"/>
                  <a:pt x="17115" y="14163"/>
                </a:cubicBezTo>
                <a:cubicBezTo>
                  <a:pt x="17072" y="14228"/>
                  <a:pt x="17051" y="14264"/>
                  <a:pt x="17090" y="14188"/>
                </a:cubicBezTo>
              </a:path>
              <a:path w="4193" h="894">
                <a:moveTo>
                  <a:pt x="17537" y="13692"/>
                </a:moveTo>
                <a:cubicBezTo>
                  <a:pt x="17481" y="13871"/>
                  <a:pt x="17422" y="14020"/>
                  <a:pt x="17338" y="14188"/>
                </a:cubicBezTo>
              </a:path>
              <a:path w="4193" h="894">
                <a:moveTo>
                  <a:pt x="17066" y="13742"/>
                </a:moveTo>
                <a:cubicBezTo>
                  <a:pt x="17009" y="13774"/>
                  <a:pt x="17003" y="13783"/>
                  <a:pt x="16942" y="13791"/>
                </a:cubicBezTo>
                <a:cubicBezTo>
                  <a:pt x="17011" y="13684"/>
                  <a:pt x="17085" y="13579"/>
                  <a:pt x="17239" y="13618"/>
                </a:cubicBezTo>
                <a:cubicBezTo>
                  <a:pt x="17411" y="13662"/>
                  <a:pt x="17425" y="13844"/>
                  <a:pt x="17636" y="13791"/>
                </a:cubicBezTo>
                <a:cubicBezTo>
                  <a:pt x="17787" y="13753"/>
                  <a:pt x="17968" y="13638"/>
                  <a:pt x="17859" y="13494"/>
                </a:cubicBezTo>
              </a:path>
              <a:path w="4193" h="894">
                <a:moveTo>
                  <a:pt x="18281" y="13841"/>
                </a:moveTo>
                <a:cubicBezTo>
                  <a:pt x="18237" y="13951"/>
                  <a:pt x="18185" y="14057"/>
                  <a:pt x="18132" y="14163"/>
                </a:cubicBezTo>
                <a:cubicBezTo>
                  <a:pt x="18190" y="13934"/>
                  <a:pt x="18276" y="13786"/>
                  <a:pt x="18504" y="13692"/>
                </a:cubicBezTo>
                <a:cubicBezTo>
                  <a:pt x="18615" y="13673"/>
                  <a:pt x="18637" y="13638"/>
                  <a:pt x="18678" y="13692"/>
                </a:cubicBezTo>
              </a:path>
              <a:path w="4193" h="894">
                <a:moveTo>
                  <a:pt x="19050" y="13419"/>
                </a:moveTo>
                <a:cubicBezTo>
                  <a:pt x="19142" y="13389"/>
                  <a:pt x="19184" y="13374"/>
                  <a:pt x="19248" y="13345"/>
                </a:cubicBezTo>
                <a:cubicBezTo>
                  <a:pt x="19318" y="13527"/>
                  <a:pt x="19265" y="13727"/>
                  <a:pt x="19025" y="13767"/>
                </a:cubicBezTo>
                <a:cubicBezTo>
                  <a:pt x="18933" y="13744"/>
                  <a:pt x="18903" y="13743"/>
                  <a:pt x="18901" y="13667"/>
                </a:cubicBezTo>
                <a:cubicBezTo>
                  <a:pt x="19087" y="13583"/>
                  <a:pt x="19110" y="13678"/>
                  <a:pt x="19298" y="13717"/>
                </a:cubicBezTo>
                <a:cubicBezTo>
                  <a:pt x="19331" y="13717"/>
                  <a:pt x="19364" y="13717"/>
                  <a:pt x="19397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8160" y="5205240"/>
            <a:ext cx="455760" cy="30492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15255" y="14759"/>
                </a:moveTo>
                <a:cubicBezTo>
                  <a:pt x="15114" y="14934"/>
                  <a:pt x="14993" y="15121"/>
                  <a:pt x="14858" y="15304"/>
                </a:cubicBezTo>
                <a:cubicBezTo>
                  <a:pt x="15060" y="14935"/>
                  <a:pt x="15288" y="14707"/>
                  <a:pt x="15627" y="14461"/>
                </a:cubicBezTo>
                <a:cubicBezTo>
                  <a:pt x="15695" y="14687"/>
                  <a:pt x="15590" y="14934"/>
                  <a:pt x="15503" y="15156"/>
                </a:cubicBezTo>
                <a:cubicBezTo>
                  <a:pt x="15486" y="15189"/>
                  <a:pt x="15470" y="15222"/>
                  <a:pt x="15453" y="15255"/>
                </a:cubicBezTo>
              </a:path>
              <a:path w="1266" h="844">
                <a:moveTo>
                  <a:pt x="15180" y="14957"/>
                </a:moveTo>
                <a:cubicBezTo>
                  <a:pt x="15319" y="14902"/>
                  <a:pt x="15375" y="14881"/>
                  <a:pt x="15478" y="14858"/>
                </a:cubicBezTo>
              </a:path>
              <a:path w="1266" h="844">
                <a:moveTo>
                  <a:pt x="15999" y="14808"/>
                </a:moveTo>
                <a:cubicBezTo>
                  <a:pt x="16040" y="14800"/>
                  <a:pt x="16082" y="14792"/>
                  <a:pt x="16123" y="14784"/>
                </a:cubicBezTo>
              </a:path>
              <a:path w="1266" h="844">
                <a:moveTo>
                  <a:pt x="15875" y="15032"/>
                </a:moveTo>
                <a:cubicBezTo>
                  <a:pt x="15916" y="15024"/>
                  <a:pt x="15958" y="15015"/>
                  <a:pt x="15999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83200" y="5054760"/>
            <a:ext cx="1320840" cy="490320"/>
          </a:xfrm>
          <a:custGeom>
            <a:avLst/>
            <a:gdLst/>
            <a:ahLst/>
            <a:rect l="l" t="t" r="r" b="b"/>
            <a:pathLst>
              <a:path w="3672" h="1366">
                <a:moveTo>
                  <a:pt x="16966" y="14660"/>
                </a:moveTo>
                <a:cubicBezTo>
                  <a:pt x="16924" y="14811"/>
                  <a:pt x="17012" y="14647"/>
                  <a:pt x="17165" y="14684"/>
                </a:cubicBezTo>
                <a:cubicBezTo>
                  <a:pt x="17081" y="14829"/>
                  <a:pt x="17039" y="14871"/>
                  <a:pt x="16892" y="14957"/>
                </a:cubicBezTo>
                <a:cubicBezTo>
                  <a:pt x="17093" y="14957"/>
                  <a:pt x="17144" y="15144"/>
                  <a:pt x="16917" y="15255"/>
                </a:cubicBezTo>
                <a:cubicBezTo>
                  <a:pt x="16697" y="15363"/>
                  <a:pt x="16561" y="15121"/>
                  <a:pt x="16694" y="15156"/>
                </a:cubicBezTo>
                <a:cubicBezTo>
                  <a:pt x="16710" y="15172"/>
                  <a:pt x="16727" y="15189"/>
                  <a:pt x="16743" y="15205"/>
                </a:cubicBezTo>
              </a:path>
              <a:path w="3672" h="1366">
                <a:moveTo>
                  <a:pt x="17239" y="15230"/>
                </a:moveTo>
                <a:lnTo>
                  <a:pt x="17239" y="15230"/>
                </a:lnTo>
              </a:path>
              <a:path w="3672" h="1366">
                <a:moveTo>
                  <a:pt x="17611" y="14684"/>
                </a:moveTo>
                <a:cubicBezTo>
                  <a:pt x="17594" y="14843"/>
                  <a:pt x="17563" y="14980"/>
                  <a:pt x="17512" y="15131"/>
                </a:cubicBezTo>
              </a:path>
              <a:path w="3672" h="1366">
                <a:moveTo>
                  <a:pt x="17859" y="14684"/>
                </a:moveTo>
                <a:cubicBezTo>
                  <a:pt x="17838" y="14771"/>
                  <a:pt x="17812" y="14804"/>
                  <a:pt x="17760" y="14883"/>
                </a:cubicBezTo>
                <a:cubicBezTo>
                  <a:pt x="17917" y="14934"/>
                  <a:pt x="17974" y="14949"/>
                  <a:pt x="18083" y="14883"/>
                </a:cubicBezTo>
              </a:path>
              <a:path w="3672" h="1366">
                <a:moveTo>
                  <a:pt x="18157" y="14511"/>
                </a:moveTo>
                <a:cubicBezTo>
                  <a:pt x="18050" y="14765"/>
                  <a:pt x="17951" y="15020"/>
                  <a:pt x="17859" y="15280"/>
                </a:cubicBezTo>
              </a:path>
              <a:path w="3672" h="1366">
                <a:moveTo>
                  <a:pt x="18951" y="14436"/>
                </a:moveTo>
                <a:cubicBezTo>
                  <a:pt x="18762" y="14669"/>
                  <a:pt x="18564" y="14920"/>
                  <a:pt x="18529" y="15230"/>
                </a:cubicBezTo>
                <a:cubicBezTo>
                  <a:pt x="18515" y="15357"/>
                  <a:pt x="18561" y="15349"/>
                  <a:pt x="18628" y="15404"/>
                </a:cubicBezTo>
              </a:path>
              <a:path w="3672" h="1366">
                <a:moveTo>
                  <a:pt x="19100" y="14734"/>
                </a:moveTo>
                <a:cubicBezTo>
                  <a:pt x="19175" y="14695"/>
                  <a:pt x="18949" y="15030"/>
                  <a:pt x="18926" y="15081"/>
                </a:cubicBezTo>
                <a:cubicBezTo>
                  <a:pt x="18918" y="15114"/>
                  <a:pt x="18909" y="15147"/>
                  <a:pt x="18901" y="15180"/>
                </a:cubicBezTo>
              </a:path>
              <a:path w="3672" h="1366">
                <a:moveTo>
                  <a:pt x="19372" y="14660"/>
                </a:moveTo>
                <a:cubicBezTo>
                  <a:pt x="19233" y="14816"/>
                  <a:pt x="19118" y="14912"/>
                  <a:pt x="19174" y="15106"/>
                </a:cubicBezTo>
                <a:cubicBezTo>
                  <a:pt x="19356" y="15070"/>
                  <a:pt x="19570" y="14981"/>
                  <a:pt x="19472" y="14734"/>
                </a:cubicBezTo>
                <a:cubicBezTo>
                  <a:pt x="19409" y="14672"/>
                  <a:pt x="19399" y="14655"/>
                  <a:pt x="19348" y="14635"/>
                </a:cubicBezTo>
              </a:path>
              <a:path w="3672" h="1366">
                <a:moveTo>
                  <a:pt x="19918" y="14337"/>
                </a:moveTo>
                <a:cubicBezTo>
                  <a:pt x="19870" y="14361"/>
                  <a:pt x="19856" y="14370"/>
                  <a:pt x="19819" y="14362"/>
                </a:cubicBezTo>
                <a:cubicBezTo>
                  <a:pt x="19932" y="14362"/>
                  <a:pt x="20081" y="14331"/>
                  <a:pt x="19993" y="14511"/>
                </a:cubicBezTo>
                <a:cubicBezTo>
                  <a:pt x="19936" y="14628"/>
                  <a:pt x="19719" y="14781"/>
                  <a:pt x="19670" y="14610"/>
                </a:cubicBezTo>
                <a:cubicBezTo>
                  <a:pt x="19808" y="14552"/>
                  <a:pt x="19781" y="14568"/>
                  <a:pt x="19918" y="14660"/>
                </a:cubicBezTo>
              </a:path>
              <a:path w="3672" h="1366">
                <a:moveTo>
                  <a:pt x="20117" y="14039"/>
                </a:moveTo>
                <a:cubicBezTo>
                  <a:pt x="20238" y="14362"/>
                  <a:pt x="20430" y="14736"/>
                  <a:pt x="20141" y="15032"/>
                </a:cubicBezTo>
                <a:cubicBezTo>
                  <a:pt x="20092" y="15057"/>
                  <a:pt x="20042" y="15081"/>
                  <a:pt x="19993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46960" y="5170320"/>
            <a:ext cx="1143000" cy="204840"/>
          </a:xfrm>
          <a:custGeom>
            <a:avLst/>
            <a:gdLst/>
            <a:ahLst/>
            <a:rect l="l" t="t" r="r" b="b"/>
            <a:pathLst>
              <a:path w="3176" h="571">
                <a:moveTo>
                  <a:pt x="20786" y="14585"/>
                </a:moveTo>
                <a:cubicBezTo>
                  <a:pt x="20717" y="14747"/>
                  <a:pt x="20694" y="14793"/>
                  <a:pt x="20687" y="14908"/>
                </a:cubicBezTo>
              </a:path>
              <a:path w="3176" h="571">
                <a:moveTo>
                  <a:pt x="21183" y="14486"/>
                </a:moveTo>
                <a:cubicBezTo>
                  <a:pt x="21081" y="14609"/>
                  <a:pt x="20975" y="14713"/>
                  <a:pt x="21034" y="14833"/>
                </a:cubicBezTo>
                <a:cubicBezTo>
                  <a:pt x="21232" y="14759"/>
                  <a:pt x="21289" y="14720"/>
                  <a:pt x="21183" y="14536"/>
                </a:cubicBezTo>
              </a:path>
              <a:path w="3176" h="571">
                <a:moveTo>
                  <a:pt x="21530" y="14511"/>
                </a:moveTo>
                <a:cubicBezTo>
                  <a:pt x="21580" y="14618"/>
                  <a:pt x="21629" y="14726"/>
                  <a:pt x="21679" y="14833"/>
                </a:cubicBezTo>
              </a:path>
              <a:path w="3176" h="571">
                <a:moveTo>
                  <a:pt x="21679" y="14635"/>
                </a:moveTo>
                <a:cubicBezTo>
                  <a:pt x="21594" y="14763"/>
                  <a:pt x="21578" y="14796"/>
                  <a:pt x="21506" y="14858"/>
                </a:cubicBezTo>
              </a:path>
              <a:path w="3176" h="571">
                <a:moveTo>
                  <a:pt x="22225" y="14536"/>
                </a:moveTo>
                <a:cubicBezTo>
                  <a:pt x="22074" y="14647"/>
                  <a:pt x="22081" y="14776"/>
                  <a:pt x="21977" y="14932"/>
                </a:cubicBezTo>
              </a:path>
              <a:path w="3176" h="571">
                <a:moveTo>
                  <a:pt x="22523" y="14436"/>
                </a:moveTo>
                <a:cubicBezTo>
                  <a:pt x="22419" y="14554"/>
                  <a:pt x="22335" y="14675"/>
                  <a:pt x="22250" y="14808"/>
                </a:cubicBezTo>
                <a:cubicBezTo>
                  <a:pt x="22442" y="14843"/>
                  <a:pt x="22538" y="14741"/>
                  <a:pt x="22547" y="14536"/>
                </a:cubicBezTo>
                <a:cubicBezTo>
                  <a:pt x="22527" y="14435"/>
                  <a:pt x="22530" y="14415"/>
                  <a:pt x="22498" y="14362"/>
                </a:cubicBezTo>
              </a:path>
              <a:path w="3176" h="571">
                <a:moveTo>
                  <a:pt x="22820" y="14461"/>
                </a:moveTo>
                <a:cubicBezTo>
                  <a:pt x="22861" y="14461"/>
                  <a:pt x="22903" y="14461"/>
                  <a:pt x="22944" y="14461"/>
                </a:cubicBezTo>
              </a:path>
              <a:path w="3176" h="571">
                <a:moveTo>
                  <a:pt x="22796" y="14684"/>
                </a:moveTo>
                <a:cubicBezTo>
                  <a:pt x="22829" y="14684"/>
                  <a:pt x="22862" y="14684"/>
                  <a:pt x="22895" y="14684"/>
                </a:cubicBezTo>
              </a:path>
              <a:path w="3176" h="571">
                <a:moveTo>
                  <a:pt x="23143" y="14436"/>
                </a:moveTo>
                <a:cubicBezTo>
                  <a:pt x="23118" y="14502"/>
                  <a:pt x="23093" y="14569"/>
                  <a:pt x="23068" y="14635"/>
                </a:cubicBezTo>
              </a:path>
              <a:path w="3176" h="571">
                <a:moveTo>
                  <a:pt x="23416" y="14436"/>
                </a:moveTo>
                <a:cubicBezTo>
                  <a:pt x="23311" y="14525"/>
                  <a:pt x="23269" y="14583"/>
                  <a:pt x="23217" y="14709"/>
                </a:cubicBezTo>
                <a:cubicBezTo>
                  <a:pt x="23376" y="14781"/>
                  <a:pt x="23529" y="14688"/>
                  <a:pt x="23564" y="14486"/>
                </a:cubicBezTo>
                <a:cubicBezTo>
                  <a:pt x="23556" y="14461"/>
                  <a:pt x="23548" y="14437"/>
                  <a:pt x="23540" y="14412"/>
                </a:cubicBezTo>
              </a:path>
              <a:path w="3176" h="571">
                <a:moveTo>
                  <a:pt x="23788" y="14436"/>
                </a:moveTo>
                <a:cubicBezTo>
                  <a:pt x="23716" y="14462"/>
                  <a:pt x="23421" y="14646"/>
                  <a:pt x="23614" y="14759"/>
                </a:cubicBezTo>
                <a:cubicBezTo>
                  <a:pt x="23777" y="14854"/>
                  <a:pt x="23827" y="14670"/>
                  <a:pt x="23862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5518080"/>
            <a:ext cx="1731960" cy="366840"/>
          </a:xfrm>
          <a:custGeom>
            <a:avLst/>
            <a:gdLst/>
            <a:ahLst/>
            <a:rect l="l" t="t" r="r" b="b"/>
            <a:pathLst>
              <a:path w="4813" h="1018">
                <a:moveTo>
                  <a:pt x="2431" y="15900"/>
                </a:moveTo>
                <a:cubicBezTo>
                  <a:pt x="2412" y="16048"/>
                  <a:pt x="2353" y="16190"/>
                  <a:pt x="2282" y="16321"/>
                </a:cubicBezTo>
                <a:cubicBezTo>
                  <a:pt x="2274" y="16329"/>
                  <a:pt x="2265" y="16338"/>
                  <a:pt x="2257" y="16346"/>
                </a:cubicBezTo>
                <a:cubicBezTo>
                  <a:pt x="2337" y="16162"/>
                  <a:pt x="2400" y="15863"/>
                  <a:pt x="2604" y="15776"/>
                </a:cubicBezTo>
                <a:cubicBezTo>
                  <a:pt x="2621" y="15776"/>
                  <a:pt x="2637" y="15776"/>
                  <a:pt x="2654" y="15776"/>
                </a:cubicBezTo>
                <a:cubicBezTo>
                  <a:pt x="2739" y="15988"/>
                  <a:pt x="2764" y="16097"/>
                  <a:pt x="2704" y="16321"/>
                </a:cubicBezTo>
              </a:path>
              <a:path w="4813" h="1018">
                <a:moveTo>
                  <a:pt x="2456" y="16049"/>
                </a:moveTo>
                <a:cubicBezTo>
                  <a:pt x="2526" y="16049"/>
                  <a:pt x="2560" y="16040"/>
                  <a:pt x="2604" y="15999"/>
                </a:cubicBezTo>
              </a:path>
              <a:path w="4813" h="1018">
                <a:moveTo>
                  <a:pt x="3001" y="15949"/>
                </a:moveTo>
                <a:cubicBezTo>
                  <a:pt x="3076" y="15949"/>
                  <a:pt x="3128" y="15942"/>
                  <a:pt x="3200" y="15925"/>
                </a:cubicBezTo>
              </a:path>
              <a:path w="4813" h="1018">
                <a:moveTo>
                  <a:pt x="2977" y="16173"/>
                </a:moveTo>
                <a:cubicBezTo>
                  <a:pt x="3044" y="16151"/>
                  <a:pt x="3105" y="16141"/>
                  <a:pt x="3175" y="16123"/>
                </a:cubicBezTo>
              </a:path>
              <a:path w="4813" h="1018">
                <a:moveTo>
                  <a:pt x="3845" y="15949"/>
                </a:moveTo>
                <a:cubicBezTo>
                  <a:pt x="3928" y="15839"/>
                  <a:pt x="3955" y="15826"/>
                  <a:pt x="4093" y="15825"/>
                </a:cubicBezTo>
                <a:cubicBezTo>
                  <a:pt x="4016" y="15969"/>
                  <a:pt x="3966" y="15987"/>
                  <a:pt x="3820" y="16073"/>
                </a:cubicBezTo>
                <a:cubicBezTo>
                  <a:pt x="3819" y="16020"/>
                  <a:pt x="4106" y="15996"/>
                  <a:pt x="4018" y="16148"/>
                </a:cubicBezTo>
                <a:cubicBezTo>
                  <a:pt x="3951" y="16263"/>
                  <a:pt x="3631" y="16436"/>
                  <a:pt x="3547" y="16247"/>
                </a:cubicBezTo>
                <a:cubicBezTo>
                  <a:pt x="3547" y="16214"/>
                  <a:pt x="3547" y="16181"/>
                  <a:pt x="3547" y="16148"/>
                </a:cubicBezTo>
              </a:path>
              <a:path w="4813" h="1018">
                <a:moveTo>
                  <a:pt x="4291" y="16024"/>
                </a:moveTo>
                <a:lnTo>
                  <a:pt x="4291" y="16024"/>
                </a:lnTo>
              </a:path>
              <a:path w="4813" h="1018">
                <a:moveTo>
                  <a:pt x="4713" y="15701"/>
                </a:moveTo>
                <a:cubicBezTo>
                  <a:pt x="4690" y="15840"/>
                  <a:pt x="4672" y="15949"/>
                  <a:pt x="4614" y="16073"/>
                </a:cubicBezTo>
              </a:path>
              <a:path w="4813" h="1018">
                <a:moveTo>
                  <a:pt x="4961" y="15701"/>
                </a:moveTo>
                <a:cubicBezTo>
                  <a:pt x="4920" y="15793"/>
                  <a:pt x="4871" y="15876"/>
                  <a:pt x="5011" y="15900"/>
                </a:cubicBezTo>
                <a:cubicBezTo>
                  <a:pt x="5093" y="15900"/>
                  <a:pt x="5110" y="15900"/>
                  <a:pt x="5159" y="15900"/>
                </a:cubicBezTo>
              </a:path>
              <a:path w="4813" h="1018">
                <a:moveTo>
                  <a:pt x="5159" y="15577"/>
                </a:moveTo>
                <a:cubicBezTo>
                  <a:pt x="5099" y="15759"/>
                  <a:pt x="5052" y="15959"/>
                  <a:pt x="4961" y="16123"/>
                </a:cubicBezTo>
              </a:path>
              <a:path w="4813" h="1018">
                <a:moveTo>
                  <a:pt x="5854" y="15528"/>
                </a:moveTo>
                <a:cubicBezTo>
                  <a:pt x="5677" y="15632"/>
                  <a:pt x="5520" y="15813"/>
                  <a:pt x="5507" y="16049"/>
                </a:cubicBezTo>
                <a:cubicBezTo>
                  <a:pt x="5529" y="16116"/>
                  <a:pt x="5530" y="16137"/>
                  <a:pt x="5581" y="16148"/>
                </a:cubicBezTo>
              </a:path>
              <a:path w="4813" h="1018">
                <a:moveTo>
                  <a:pt x="6102" y="15825"/>
                </a:moveTo>
                <a:cubicBezTo>
                  <a:pt x="6123" y="15769"/>
                  <a:pt x="6027" y="15734"/>
                  <a:pt x="6077" y="15701"/>
                </a:cubicBezTo>
                <a:cubicBezTo>
                  <a:pt x="6159" y="15675"/>
                  <a:pt x="6192" y="15665"/>
                  <a:pt x="6251" y="15652"/>
                </a:cubicBezTo>
                <a:cubicBezTo>
                  <a:pt x="6237" y="15917"/>
                  <a:pt x="6117" y="16049"/>
                  <a:pt x="5829" y="16049"/>
                </a:cubicBezTo>
                <a:cubicBezTo>
                  <a:pt x="5804" y="16041"/>
                  <a:pt x="5780" y="16032"/>
                  <a:pt x="5755" y="16024"/>
                </a:cubicBezTo>
                <a:cubicBezTo>
                  <a:pt x="5881" y="15848"/>
                  <a:pt x="5995" y="15878"/>
                  <a:pt x="6176" y="15999"/>
                </a:cubicBezTo>
                <a:cubicBezTo>
                  <a:pt x="6193" y="16016"/>
                  <a:pt x="6209" y="16032"/>
                  <a:pt x="6226" y="16049"/>
                </a:cubicBezTo>
              </a:path>
              <a:path w="4813" h="1018">
                <a:moveTo>
                  <a:pt x="6722" y="15627"/>
                </a:moveTo>
                <a:cubicBezTo>
                  <a:pt x="6628" y="15627"/>
                  <a:pt x="6589" y="15644"/>
                  <a:pt x="6524" y="15726"/>
                </a:cubicBezTo>
                <a:cubicBezTo>
                  <a:pt x="6502" y="15770"/>
                  <a:pt x="6499" y="15782"/>
                  <a:pt x="6474" y="15801"/>
                </a:cubicBezTo>
                <a:cubicBezTo>
                  <a:pt x="6563" y="15806"/>
                  <a:pt x="6835" y="15783"/>
                  <a:pt x="6796" y="15949"/>
                </a:cubicBezTo>
                <a:cubicBezTo>
                  <a:pt x="6729" y="16231"/>
                  <a:pt x="6440" y="16049"/>
                  <a:pt x="6300" y="15974"/>
                </a:cubicBezTo>
              </a:path>
              <a:path w="4813" h="1018">
                <a:moveTo>
                  <a:pt x="6945" y="15329"/>
                </a:moveTo>
                <a:cubicBezTo>
                  <a:pt x="7005" y="15559"/>
                  <a:pt x="7149" y="15884"/>
                  <a:pt x="7045" y="16123"/>
                </a:cubicBezTo>
                <a:cubicBezTo>
                  <a:pt x="6948" y="16219"/>
                  <a:pt x="6920" y="16251"/>
                  <a:pt x="6821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5545080"/>
            <a:ext cx="1233360" cy="250920"/>
          </a:xfrm>
          <a:custGeom>
            <a:avLst/>
            <a:gdLst/>
            <a:ahLst/>
            <a:rect l="l" t="t" r="r" b="b"/>
            <a:pathLst>
              <a:path w="3424" h="695">
                <a:moveTo>
                  <a:pt x="15230" y="15627"/>
                </a:moveTo>
                <a:cubicBezTo>
                  <a:pt x="15032" y="15638"/>
                  <a:pt x="15072" y="15617"/>
                  <a:pt x="15056" y="15652"/>
                </a:cubicBezTo>
                <a:cubicBezTo>
                  <a:pt x="14985" y="15802"/>
                  <a:pt x="14900" y="15936"/>
                  <a:pt x="14808" y="16073"/>
                </a:cubicBezTo>
                <a:cubicBezTo>
                  <a:pt x="14896" y="15855"/>
                  <a:pt x="15028" y="15710"/>
                  <a:pt x="15205" y="15553"/>
                </a:cubicBezTo>
                <a:cubicBezTo>
                  <a:pt x="15286" y="15492"/>
                  <a:pt x="15298" y="15457"/>
                  <a:pt x="15354" y="15503"/>
                </a:cubicBezTo>
                <a:cubicBezTo>
                  <a:pt x="15339" y="15715"/>
                  <a:pt x="15313" y="15901"/>
                  <a:pt x="15230" y="16098"/>
                </a:cubicBezTo>
              </a:path>
              <a:path w="3424" h="695">
                <a:moveTo>
                  <a:pt x="15056" y="15875"/>
                </a:moveTo>
                <a:cubicBezTo>
                  <a:pt x="15239" y="15852"/>
                  <a:pt x="15289" y="15846"/>
                  <a:pt x="15404" y="15825"/>
                </a:cubicBezTo>
              </a:path>
              <a:path w="3424" h="695">
                <a:moveTo>
                  <a:pt x="15701" y="15801"/>
                </a:moveTo>
                <a:cubicBezTo>
                  <a:pt x="15817" y="15801"/>
                  <a:pt x="15866" y="15801"/>
                  <a:pt x="15949" y="15801"/>
                </a:cubicBezTo>
              </a:path>
              <a:path w="3424" h="695">
                <a:moveTo>
                  <a:pt x="15503" y="15999"/>
                </a:moveTo>
                <a:cubicBezTo>
                  <a:pt x="15569" y="15999"/>
                  <a:pt x="15635" y="15999"/>
                  <a:pt x="15701" y="15999"/>
                </a:cubicBezTo>
              </a:path>
              <a:path w="3424" h="695">
                <a:moveTo>
                  <a:pt x="16718" y="15553"/>
                </a:moveTo>
                <a:cubicBezTo>
                  <a:pt x="16620" y="15801"/>
                  <a:pt x="17058" y="15420"/>
                  <a:pt x="16991" y="15627"/>
                </a:cubicBezTo>
                <a:cubicBezTo>
                  <a:pt x="16941" y="15781"/>
                  <a:pt x="16696" y="15793"/>
                  <a:pt x="16570" y="15825"/>
                </a:cubicBezTo>
                <a:cubicBezTo>
                  <a:pt x="16738" y="15835"/>
                  <a:pt x="16740" y="15828"/>
                  <a:pt x="16842" y="15949"/>
                </a:cubicBezTo>
                <a:cubicBezTo>
                  <a:pt x="16811" y="15975"/>
                  <a:pt x="16245" y="16235"/>
                  <a:pt x="16297" y="16024"/>
                </a:cubicBezTo>
                <a:cubicBezTo>
                  <a:pt x="16331" y="15889"/>
                  <a:pt x="16669" y="16061"/>
                  <a:pt x="16718" y="16098"/>
                </a:cubicBezTo>
              </a:path>
              <a:path w="3424" h="695">
                <a:moveTo>
                  <a:pt x="17066" y="16024"/>
                </a:moveTo>
                <a:lnTo>
                  <a:pt x="17066" y="16024"/>
                </a:lnTo>
              </a:path>
              <a:path w="3424" h="695">
                <a:moveTo>
                  <a:pt x="17487" y="15602"/>
                </a:moveTo>
                <a:cubicBezTo>
                  <a:pt x="17432" y="15743"/>
                  <a:pt x="17383" y="15879"/>
                  <a:pt x="17338" y="16024"/>
                </a:cubicBezTo>
              </a:path>
              <a:path w="3424" h="695">
                <a:moveTo>
                  <a:pt x="17785" y="15652"/>
                </a:moveTo>
                <a:cubicBezTo>
                  <a:pt x="17659" y="15884"/>
                  <a:pt x="17863" y="15789"/>
                  <a:pt x="18058" y="15776"/>
                </a:cubicBezTo>
              </a:path>
              <a:path w="3424" h="695">
                <a:moveTo>
                  <a:pt x="18231" y="15404"/>
                </a:moveTo>
                <a:cubicBezTo>
                  <a:pt x="18092" y="15628"/>
                  <a:pt x="17956" y="15853"/>
                  <a:pt x="17810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5518080"/>
            <a:ext cx="679320" cy="295200"/>
          </a:xfrm>
          <a:custGeom>
            <a:avLst/>
            <a:gdLst/>
            <a:ahLst/>
            <a:rect l="l" t="t" r="r" b="b"/>
            <a:pathLst>
              <a:path w="1886" h="820">
                <a:moveTo>
                  <a:pt x="18852" y="15503"/>
                </a:moveTo>
                <a:cubicBezTo>
                  <a:pt x="18695" y="15660"/>
                  <a:pt x="18594" y="15865"/>
                  <a:pt x="18653" y="16098"/>
                </a:cubicBezTo>
                <a:cubicBezTo>
                  <a:pt x="18670" y="16115"/>
                  <a:pt x="18686" y="16131"/>
                  <a:pt x="18703" y="16148"/>
                </a:cubicBezTo>
              </a:path>
              <a:path w="1886" h="820">
                <a:moveTo>
                  <a:pt x="19149" y="15627"/>
                </a:moveTo>
                <a:cubicBezTo>
                  <a:pt x="19110" y="15606"/>
                  <a:pt x="19031" y="15882"/>
                  <a:pt x="18976" y="16024"/>
                </a:cubicBezTo>
              </a:path>
              <a:path w="1886" h="820">
                <a:moveTo>
                  <a:pt x="19521" y="15627"/>
                </a:moveTo>
                <a:cubicBezTo>
                  <a:pt x="19317" y="15744"/>
                  <a:pt x="19287" y="15806"/>
                  <a:pt x="19348" y="16024"/>
                </a:cubicBezTo>
                <a:cubicBezTo>
                  <a:pt x="19595" y="15987"/>
                  <a:pt x="19673" y="15935"/>
                  <a:pt x="19596" y="15701"/>
                </a:cubicBezTo>
              </a:path>
              <a:path w="1886" h="820">
                <a:moveTo>
                  <a:pt x="19968" y="15652"/>
                </a:moveTo>
                <a:cubicBezTo>
                  <a:pt x="19821" y="15828"/>
                  <a:pt x="19764" y="15820"/>
                  <a:pt x="19819" y="16024"/>
                </a:cubicBezTo>
                <a:cubicBezTo>
                  <a:pt x="20119" y="15985"/>
                  <a:pt x="20127" y="15924"/>
                  <a:pt x="20117" y="15627"/>
                </a:cubicBezTo>
              </a:path>
              <a:path w="1886" h="820">
                <a:moveTo>
                  <a:pt x="20414" y="15329"/>
                </a:moveTo>
                <a:cubicBezTo>
                  <a:pt x="20505" y="15759"/>
                  <a:pt x="20559" y="15922"/>
                  <a:pt x="2014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5991120"/>
            <a:ext cx="401400" cy="2779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2456" y="16793"/>
                </a:moveTo>
                <a:cubicBezTo>
                  <a:pt x="2404" y="17011"/>
                  <a:pt x="2349" y="17209"/>
                  <a:pt x="2257" y="17413"/>
                </a:cubicBezTo>
                <a:cubicBezTo>
                  <a:pt x="2304" y="17166"/>
                  <a:pt x="2411" y="16894"/>
                  <a:pt x="2580" y="16694"/>
                </a:cubicBezTo>
                <a:cubicBezTo>
                  <a:pt x="2649" y="16647"/>
                  <a:pt x="2669" y="16626"/>
                  <a:pt x="2704" y="16694"/>
                </a:cubicBezTo>
                <a:cubicBezTo>
                  <a:pt x="2776" y="16936"/>
                  <a:pt x="2783" y="17089"/>
                  <a:pt x="2729" y="17338"/>
                </a:cubicBezTo>
              </a:path>
              <a:path w="1117" h="770">
                <a:moveTo>
                  <a:pt x="2431" y="17090"/>
                </a:moveTo>
                <a:cubicBezTo>
                  <a:pt x="2567" y="17041"/>
                  <a:pt x="2711" y="17023"/>
                  <a:pt x="2853" y="16991"/>
                </a:cubicBezTo>
              </a:path>
              <a:path w="1117" h="770">
                <a:moveTo>
                  <a:pt x="3175" y="16917"/>
                </a:moveTo>
                <a:cubicBezTo>
                  <a:pt x="3274" y="16917"/>
                  <a:pt x="3307" y="16917"/>
                  <a:pt x="3373" y="16917"/>
                </a:cubicBezTo>
              </a:path>
              <a:path w="1117" h="770">
                <a:moveTo>
                  <a:pt x="3051" y="17165"/>
                </a:moveTo>
                <a:cubicBezTo>
                  <a:pt x="3154" y="17160"/>
                  <a:pt x="3246" y="17151"/>
                  <a:pt x="3349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1840" y="5965920"/>
            <a:ext cx="617400" cy="650880"/>
          </a:xfrm>
          <a:custGeom>
            <a:avLst/>
            <a:gdLst/>
            <a:ahLst/>
            <a:rect l="l" t="t" r="r" b="b"/>
            <a:pathLst>
              <a:path w="1713" h="1811">
                <a:moveTo>
                  <a:pt x="3944" y="16768"/>
                </a:moveTo>
                <a:cubicBezTo>
                  <a:pt x="3913" y="16846"/>
                  <a:pt x="3901" y="16907"/>
                  <a:pt x="3894" y="16991"/>
                </a:cubicBezTo>
                <a:cubicBezTo>
                  <a:pt x="4013" y="16783"/>
                  <a:pt x="4030" y="16791"/>
                  <a:pt x="4242" y="16718"/>
                </a:cubicBezTo>
                <a:cubicBezTo>
                  <a:pt x="4258" y="16710"/>
                  <a:pt x="4275" y="16702"/>
                  <a:pt x="4291" y="16694"/>
                </a:cubicBezTo>
                <a:cubicBezTo>
                  <a:pt x="4310" y="16881"/>
                  <a:pt x="4146" y="17128"/>
                  <a:pt x="4068" y="17314"/>
                </a:cubicBezTo>
                <a:cubicBezTo>
                  <a:pt x="4051" y="17355"/>
                  <a:pt x="4035" y="17397"/>
                  <a:pt x="4018" y="17438"/>
                </a:cubicBezTo>
              </a:path>
              <a:path w="1713" h="1811">
                <a:moveTo>
                  <a:pt x="4762" y="16718"/>
                </a:moveTo>
                <a:cubicBezTo>
                  <a:pt x="4656" y="16736"/>
                  <a:pt x="4353" y="16785"/>
                  <a:pt x="4390" y="16966"/>
                </a:cubicBezTo>
                <a:cubicBezTo>
                  <a:pt x="4418" y="17106"/>
                  <a:pt x="4727" y="17279"/>
                  <a:pt x="4490" y="17413"/>
                </a:cubicBezTo>
                <a:cubicBezTo>
                  <a:pt x="4449" y="17421"/>
                  <a:pt x="4407" y="17430"/>
                  <a:pt x="4366" y="17438"/>
                </a:cubicBezTo>
                <a:cubicBezTo>
                  <a:pt x="4321" y="17202"/>
                  <a:pt x="4505" y="16997"/>
                  <a:pt x="4663" y="16793"/>
                </a:cubicBezTo>
                <a:cubicBezTo>
                  <a:pt x="4702" y="16754"/>
                  <a:pt x="4734" y="16737"/>
                  <a:pt x="4688" y="16743"/>
                </a:cubicBezTo>
              </a:path>
              <a:path w="1713" h="1811">
                <a:moveTo>
                  <a:pt x="4936" y="17264"/>
                </a:moveTo>
                <a:cubicBezTo>
                  <a:pt x="4862" y="17357"/>
                  <a:pt x="4950" y="17317"/>
                  <a:pt x="4837" y="17289"/>
                </a:cubicBezTo>
              </a:path>
              <a:path w="1713" h="1811">
                <a:moveTo>
                  <a:pt x="5531" y="16570"/>
                </a:moveTo>
                <a:cubicBezTo>
                  <a:pt x="5470" y="16623"/>
                  <a:pt x="5301" y="16694"/>
                  <a:pt x="5259" y="16768"/>
                </a:cubicBezTo>
                <a:cubicBezTo>
                  <a:pt x="5210" y="16855"/>
                  <a:pt x="5196" y="16944"/>
                  <a:pt x="5184" y="17041"/>
                </a:cubicBezTo>
                <a:cubicBezTo>
                  <a:pt x="5337" y="16986"/>
                  <a:pt x="5417" y="16923"/>
                  <a:pt x="5556" y="16966"/>
                </a:cubicBezTo>
                <a:cubicBezTo>
                  <a:pt x="5623" y="17167"/>
                  <a:pt x="5562" y="17312"/>
                  <a:pt x="5333" y="17388"/>
                </a:cubicBezTo>
                <a:cubicBezTo>
                  <a:pt x="5130" y="17455"/>
                  <a:pt x="5024" y="17288"/>
                  <a:pt x="5060" y="17314"/>
                </a:cubicBezTo>
                <a:cubicBezTo>
                  <a:pt x="5077" y="17330"/>
                  <a:pt x="5093" y="17347"/>
                  <a:pt x="5110" y="17363"/>
                </a:cubicBezTo>
              </a:path>
              <a:path w="1713" h="1811">
                <a:moveTo>
                  <a:pt x="4167" y="18380"/>
                </a:moveTo>
                <a:lnTo>
                  <a:pt x="4167" y="1838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7080" y="5938920"/>
            <a:ext cx="482760" cy="303120"/>
          </a:xfrm>
          <a:custGeom>
            <a:avLst/>
            <a:gdLst/>
            <a:ahLst/>
            <a:rect l="l" t="t" r="r" b="b"/>
            <a:pathLst>
              <a:path w="1340" h="844">
                <a:moveTo>
                  <a:pt x="6524" y="16842"/>
                </a:moveTo>
                <a:cubicBezTo>
                  <a:pt x="6543" y="16727"/>
                  <a:pt x="6535" y="16724"/>
                  <a:pt x="6474" y="16619"/>
                </a:cubicBezTo>
                <a:cubicBezTo>
                  <a:pt x="6305" y="16807"/>
                  <a:pt x="6353" y="16996"/>
                  <a:pt x="6325" y="17239"/>
                </a:cubicBezTo>
                <a:cubicBezTo>
                  <a:pt x="6317" y="17272"/>
                  <a:pt x="6308" y="17305"/>
                  <a:pt x="6300" y="17338"/>
                </a:cubicBezTo>
              </a:path>
              <a:path w="1340" h="844">
                <a:moveTo>
                  <a:pt x="6102" y="17016"/>
                </a:moveTo>
                <a:cubicBezTo>
                  <a:pt x="6295" y="17046"/>
                  <a:pt x="6411" y="17052"/>
                  <a:pt x="6598" y="17016"/>
                </a:cubicBezTo>
              </a:path>
              <a:path w="1340" h="844">
                <a:moveTo>
                  <a:pt x="6846" y="16669"/>
                </a:moveTo>
                <a:cubicBezTo>
                  <a:pt x="6874" y="16887"/>
                  <a:pt x="6789" y="17032"/>
                  <a:pt x="6722" y="17239"/>
                </a:cubicBezTo>
                <a:cubicBezTo>
                  <a:pt x="6684" y="17356"/>
                  <a:pt x="6969" y="17227"/>
                  <a:pt x="6995" y="17214"/>
                </a:cubicBezTo>
              </a:path>
              <a:path w="1340" h="844">
                <a:moveTo>
                  <a:pt x="6548" y="17016"/>
                </a:moveTo>
                <a:cubicBezTo>
                  <a:pt x="6726" y="16990"/>
                  <a:pt x="6788" y="16980"/>
                  <a:pt x="6896" y="16917"/>
                </a:cubicBezTo>
              </a:path>
              <a:path w="1340" h="844">
                <a:moveTo>
                  <a:pt x="7193" y="16520"/>
                </a:moveTo>
                <a:cubicBezTo>
                  <a:pt x="7296" y="16506"/>
                  <a:pt x="7531" y="16527"/>
                  <a:pt x="7441" y="16718"/>
                </a:cubicBezTo>
                <a:cubicBezTo>
                  <a:pt x="7388" y="16832"/>
                  <a:pt x="7038" y="16835"/>
                  <a:pt x="7144" y="16768"/>
                </a:cubicBezTo>
                <a:cubicBezTo>
                  <a:pt x="7256" y="16745"/>
                  <a:pt x="7287" y="16730"/>
                  <a:pt x="7342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32240" y="5919840"/>
            <a:ext cx="196920" cy="25092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14759" y="16520"/>
                </a:moveTo>
                <a:cubicBezTo>
                  <a:pt x="14771" y="16764"/>
                  <a:pt x="14706" y="16917"/>
                  <a:pt x="14560" y="17115"/>
                </a:cubicBezTo>
                <a:cubicBezTo>
                  <a:pt x="14552" y="17123"/>
                  <a:pt x="14544" y="17132"/>
                  <a:pt x="14536" y="17140"/>
                </a:cubicBezTo>
                <a:cubicBezTo>
                  <a:pt x="14669" y="16864"/>
                  <a:pt x="14819" y="16668"/>
                  <a:pt x="15032" y="16446"/>
                </a:cubicBezTo>
                <a:cubicBezTo>
                  <a:pt x="15066" y="16712"/>
                  <a:pt x="15101" y="16883"/>
                  <a:pt x="14957" y="17115"/>
                </a:cubicBezTo>
              </a:path>
              <a:path w="546" h="695">
                <a:moveTo>
                  <a:pt x="14660" y="16892"/>
                </a:moveTo>
                <a:cubicBezTo>
                  <a:pt x="14817" y="16892"/>
                  <a:pt x="14876" y="16891"/>
                  <a:pt x="14982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6010200"/>
            <a:ext cx="13464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15528" y="16743"/>
                </a:moveTo>
                <a:cubicBezTo>
                  <a:pt x="15609" y="16712"/>
                  <a:pt x="15746" y="16699"/>
                  <a:pt x="15825" y="16718"/>
                </a:cubicBezTo>
              </a:path>
              <a:path w="373" h="224">
                <a:moveTo>
                  <a:pt x="15453" y="16917"/>
                </a:moveTo>
                <a:cubicBezTo>
                  <a:pt x="15536" y="16917"/>
                  <a:pt x="15586" y="16917"/>
                  <a:pt x="15652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5965920"/>
            <a:ext cx="492120" cy="276120"/>
          </a:xfrm>
          <a:custGeom>
            <a:avLst/>
            <a:gdLst/>
            <a:ahLst/>
            <a:rect l="l" t="t" r="r" b="b"/>
            <a:pathLst>
              <a:path w="1366" h="769">
                <a:moveTo>
                  <a:pt x="16669" y="16594"/>
                </a:moveTo>
                <a:cubicBezTo>
                  <a:pt x="16610" y="16581"/>
                  <a:pt x="16547" y="16694"/>
                  <a:pt x="16495" y="16768"/>
                </a:cubicBezTo>
                <a:cubicBezTo>
                  <a:pt x="16628" y="16724"/>
                  <a:pt x="16710" y="16694"/>
                  <a:pt x="16842" y="16694"/>
                </a:cubicBezTo>
                <a:cubicBezTo>
                  <a:pt x="16799" y="16929"/>
                  <a:pt x="16699" y="16954"/>
                  <a:pt x="16495" y="17041"/>
                </a:cubicBezTo>
                <a:cubicBezTo>
                  <a:pt x="16356" y="17041"/>
                  <a:pt x="16669" y="17046"/>
                  <a:pt x="16694" y="17066"/>
                </a:cubicBezTo>
                <a:cubicBezTo>
                  <a:pt x="16919" y="17245"/>
                  <a:pt x="16461" y="17345"/>
                  <a:pt x="16346" y="17314"/>
                </a:cubicBezTo>
                <a:cubicBezTo>
                  <a:pt x="16320" y="17307"/>
                  <a:pt x="16610" y="17239"/>
                  <a:pt x="16669" y="17239"/>
                </a:cubicBezTo>
              </a:path>
              <a:path w="1366" h="769">
                <a:moveTo>
                  <a:pt x="17140" y="16694"/>
                </a:moveTo>
                <a:cubicBezTo>
                  <a:pt x="17074" y="16883"/>
                  <a:pt x="17040" y="17072"/>
                  <a:pt x="16991" y="17264"/>
                </a:cubicBezTo>
              </a:path>
              <a:path w="1366" h="769">
                <a:moveTo>
                  <a:pt x="17363" y="16867"/>
                </a:moveTo>
                <a:cubicBezTo>
                  <a:pt x="17206" y="17077"/>
                  <a:pt x="17568" y="17004"/>
                  <a:pt x="17711" y="16991"/>
                </a:cubicBezTo>
              </a:path>
              <a:path w="1366" h="769">
                <a:moveTo>
                  <a:pt x="17661" y="16594"/>
                </a:moveTo>
                <a:cubicBezTo>
                  <a:pt x="17590" y="16815"/>
                  <a:pt x="17511" y="17028"/>
                  <a:pt x="1741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7880" y="5929200"/>
            <a:ext cx="465120" cy="2858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8281" y="16867"/>
                </a:moveTo>
                <a:cubicBezTo>
                  <a:pt x="18229" y="16998"/>
                  <a:pt x="18186" y="17144"/>
                  <a:pt x="18132" y="17264"/>
                </a:cubicBezTo>
              </a:path>
              <a:path w="1291" h="795">
                <a:moveTo>
                  <a:pt x="18380" y="16545"/>
                </a:moveTo>
                <a:lnTo>
                  <a:pt x="18380" y="16545"/>
                </a:lnTo>
              </a:path>
              <a:path w="1291" h="795">
                <a:moveTo>
                  <a:pt x="18554" y="17016"/>
                </a:moveTo>
                <a:cubicBezTo>
                  <a:pt x="18554" y="17057"/>
                  <a:pt x="18554" y="17099"/>
                  <a:pt x="18554" y="17140"/>
                </a:cubicBezTo>
                <a:cubicBezTo>
                  <a:pt x="18586" y="16938"/>
                  <a:pt x="18623" y="16881"/>
                  <a:pt x="18827" y="16842"/>
                </a:cubicBezTo>
                <a:cubicBezTo>
                  <a:pt x="18847" y="16986"/>
                  <a:pt x="18850" y="17096"/>
                  <a:pt x="18827" y="17239"/>
                </a:cubicBezTo>
              </a:path>
              <a:path w="1291" h="795">
                <a:moveTo>
                  <a:pt x="19224" y="16470"/>
                </a:moveTo>
                <a:cubicBezTo>
                  <a:pt x="19369" y="16519"/>
                  <a:pt x="19519" y="16687"/>
                  <a:pt x="19298" y="16818"/>
                </a:cubicBezTo>
                <a:cubicBezTo>
                  <a:pt x="19214" y="16868"/>
                  <a:pt x="19140" y="16847"/>
                  <a:pt x="19100" y="16793"/>
                </a:cubicBezTo>
                <a:cubicBezTo>
                  <a:pt x="19297" y="16753"/>
                  <a:pt x="19278" y="16747"/>
                  <a:pt x="19422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040" y="3741840"/>
            <a:ext cx="2259000" cy="563400"/>
          </a:xfrm>
          <a:custGeom>
            <a:avLst/>
            <a:gdLst/>
            <a:ahLst/>
            <a:rect l="l" t="t" r="r" b="b"/>
            <a:pathLst>
              <a:path w="6277" h="1564">
                <a:moveTo>
                  <a:pt x="1389" y="11956"/>
                </a:moveTo>
                <a:cubicBezTo>
                  <a:pt x="1713" y="11956"/>
                  <a:pt x="2032" y="11934"/>
                  <a:pt x="2356" y="11931"/>
                </a:cubicBezTo>
                <a:cubicBezTo>
                  <a:pt x="2861" y="11927"/>
                  <a:pt x="3366" y="11909"/>
                  <a:pt x="3870" y="11881"/>
                </a:cubicBezTo>
                <a:cubicBezTo>
                  <a:pt x="4362" y="11854"/>
                  <a:pt x="4842" y="11868"/>
                  <a:pt x="5333" y="11881"/>
                </a:cubicBezTo>
                <a:cubicBezTo>
                  <a:pt x="5814" y="11894"/>
                  <a:pt x="6290" y="11931"/>
                  <a:pt x="6772" y="11931"/>
                </a:cubicBezTo>
                <a:cubicBezTo>
                  <a:pt x="6818" y="11931"/>
                  <a:pt x="7336" y="11960"/>
                  <a:pt x="7367" y="11931"/>
                </a:cubicBezTo>
                <a:cubicBezTo>
                  <a:pt x="7599" y="11715"/>
                  <a:pt x="7557" y="11122"/>
                  <a:pt x="7615" y="10840"/>
                </a:cubicBezTo>
                <a:cubicBezTo>
                  <a:pt x="7634" y="10747"/>
                  <a:pt x="7649" y="10658"/>
                  <a:pt x="7665" y="10567"/>
                </a:cubicBezTo>
                <a:cubicBezTo>
                  <a:pt x="7542" y="10558"/>
                  <a:pt x="7438" y="10558"/>
                  <a:pt x="7293" y="10567"/>
                </a:cubicBezTo>
                <a:cubicBezTo>
                  <a:pt x="7162" y="10576"/>
                  <a:pt x="7049" y="10602"/>
                  <a:pt x="6921" y="10616"/>
                </a:cubicBezTo>
                <a:cubicBezTo>
                  <a:pt x="6829" y="10626"/>
                  <a:pt x="6739" y="10635"/>
                  <a:pt x="6648" y="10641"/>
                </a:cubicBezTo>
                <a:cubicBezTo>
                  <a:pt x="6190" y="10670"/>
                  <a:pt x="5736" y="10614"/>
                  <a:pt x="5283" y="10592"/>
                </a:cubicBezTo>
                <a:cubicBezTo>
                  <a:pt x="5075" y="10582"/>
                  <a:pt x="4869" y="10577"/>
                  <a:pt x="4663" y="10542"/>
                </a:cubicBezTo>
                <a:cubicBezTo>
                  <a:pt x="4481" y="10512"/>
                  <a:pt x="4300" y="10512"/>
                  <a:pt x="4118" y="10492"/>
                </a:cubicBezTo>
                <a:cubicBezTo>
                  <a:pt x="3903" y="10469"/>
                  <a:pt x="3688" y="10463"/>
                  <a:pt x="3473" y="10443"/>
                </a:cubicBezTo>
                <a:cubicBezTo>
                  <a:pt x="3161" y="10414"/>
                  <a:pt x="2843" y="10398"/>
                  <a:pt x="2530" y="10393"/>
                </a:cubicBezTo>
                <a:cubicBezTo>
                  <a:pt x="2381" y="10391"/>
                  <a:pt x="2216" y="10380"/>
                  <a:pt x="2084" y="10418"/>
                </a:cubicBezTo>
                <a:cubicBezTo>
                  <a:pt x="2025" y="10435"/>
                  <a:pt x="1964" y="10448"/>
                  <a:pt x="1910" y="10468"/>
                </a:cubicBezTo>
                <a:cubicBezTo>
                  <a:pt x="1773" y="10520"/>
                  <a:pt x="1754" y="10486"/>
                  <a:pt x="1736" y="10666"/>
                </a:cubicBezTo>
                <a:cubicBezTo>
                  <a:pt x="1695" y="11071"/>
                  <a:pt x="1736" y="11498"/>
                  <a:pt x="1736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0200" y="5840280"/>
            <a:ext cx="2411640" cy="527040"/>
          </a:xfrm>
          <a:custGeom>
            <a:avLst/>
            <a:gdLst/>
            <a:ahLst/>
            <a:rect l="l" t="t" r="r" b="b"/>
            <a:pathLst>
              <a:path w="6698" h="1465">
                <a:moveTo>
                  <a:pt x="13643" y="16545"/>
                </a:moveTo>
                <a:cubicBezTo>
                  <a:pt x="13645" y="16557"/>
                  <a:pt x="13698" y="16746"/>
                  <a:pt x="13667" y="16917"/>
                </a:cubicBezTo>
                <a:cubicBezTo>
                  <a:pt x="13625" y="17106"/>
                  <a:pt x="13609" y="17146"/>
                  <a:pt x="13618" y="17264"/>
                </a:cubicBezTo>
                <a:cubicBezTo>
                  <a:pt x="13831" y="17326"/>
                  <a:pt x="14033" y="17356"/>
                  <a:pt x="14263" y="17388"/>
                </a:cubicBezTo>
                <a:cubicBezTo>
                  <a:pt x="15207" y="17519"/>
                  <a:pt x="16137" y="17614"/>
                  <a:pt x="17090" y="17661"/>
                </a:cubicBezTo>
                <a:cubicBezTo>
                  <a:pt x="17785" y="17695"/>
                  <a:pt x="18479" y="17699"/>
                  <a:pt x="19174" y="17661"/>
                </a:cubicBezTo>
                <a:cubicBezTo>
                  <a:pt x="19259" y="17656"/>
                  <a:pt x="19833" y="17680"/>
                  <a:pt x="19893" y="17562"/>
                </a:cubicBezTo>
                <a:cubicBezTo>
                  <a:pt x="19976" y="17399"/>
                  <a:pt x="20002" y="17034"/>
                  <a:pt x="20067" y="16842"/>
                </a:cubicBezTo>
                <a:cubicBezTo>
                  <a:pt x="20131" y="16652"/>
                  <a:pt x="20125" y="16600"/>
                  <a:pt x="20141" y="16421"/>
                </a:cubicBezTo>
                <a:cubicBezTo>
                  <a:pt x="20083" y="16421"/>
                  <a:pt x="19992" y="16419"/>
                  <a:pt x="19918" y="16421"/>
                </a:cubicBezTo>
                <a:cubicBezTo>
                  <a:pt x="19750" y="16426"/>
                  <a:pt x="19589" y="16400"/>
                  <a:pt x="19422" y="16396"/>
                </a:cubicBezTo>
                <a:cubicBezTo>
                  <a:pt x="19234" y="16392"/>
                  <a:pt x="19039" y="16426"/>
                  <a:pt x="18852" y="16446"/>
                </a:cubicBezTo>
                <a:cubicBezTo>
                  <a:pt x="18509" y="16482"/>
                  <a:pt x="18177" y="16464"/>
                  <a:pt x="17835" y="16446"/>
                </a:cubicBezTo>
                <a:cubicBezTo>
                  <a:pt x="17434" y="16424"/>
                  <a:pt x="17042" y="16514"/>
                  <a:pt x="16644" y="16495"/>
                </a:cubicBezTo>
                <a:cubicBezTo>
                  <a:pt x="16321" y="16480"/>
                  <a:pt x="15999" y="16453"/>
                  <a:pt x="15677" y="16421"/>
                </a:cubicBezTo>
                <a:cubicBezTo>
                  <a:pt x="15093" y="16362"/>
                  <a:pt x="14501" y="16247"/>
                  <a:pt x="13915" y="16247"/>
                </a:cubicBezTo>
                <a:cubicBezTo>
                  <a:pt x="13699" y="16247"/>
                  <a:pt x="13516" y="16147"/>
                  <a:pt x="13444" y="16321"/>
                </a:cubicBezTo>
                <a:cubicBezTo>
                  <a:pt x="13410" y="16403"/>
                  <a:pt x="13477" y="16683"/>
                  <a:pt x="1346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2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62320" cy="2268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95280" y="2133720"/>
            <a:ext cx="2392560" cy="2333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5740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440" y="164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17524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 – Cour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circle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Radius = 7.2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Diameter = 40.2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 – Cour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area of the circl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adius = 7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iameter = 40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37 1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g. 155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a calculator for tonight’s home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2:05:04Z</dcterms:created>
  <dc:creator>ccps</dc:creator>
  <dc:description/>
  <dc:language>en-US</dc:language>
  <cp:lastModifiedBy>deanne elizabeth mcgrath</cp:lastModifiedBy>
  <dcterms:modified xsi:type="dcterms:W3CDTF">2010-05-19T17:45:46Z</dcterms:modified>
  <cp:revision>12</cp:revision>
  <dc:subject/>
  <dc:title>Unit 14</dc:title>
</cp:coreProperties>
</file>